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13.png" ContentType="image/png"/>
  <Override PartName="/ppt/media/image21.jpeg" ContentType="image/jpeg"/>
  <Override PartName="/ppt/media/image16.png" ContentType="image/png"/>
  <Override PartName="/ppt/media/image18.jpeg" ContentType="image/jpeg"/>
  <Override PartName="/ppt/media/image15.png" ContentType="image/png"/>
  <Override PartName="/ppt/media/image14.png" ContentType="image/png"/>
  <Override PartName="/ppt/media/image1.jpeg" ContentType="image/jpeg"/>
  <Override PartName="/ppt/media/image6.jpeg" ContentType="image/jpeg"/>
  <Override PartName="/ppt/media/image10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8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3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13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2C9BD-3A16-4BA1-A579-ADD092141F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1128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559F5-EE7C-4C05-9014-550C3192F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2832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1128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2832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562FF-C360-44F6-81ED-A38DD64A2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9372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761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1128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9372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761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AA2F-7DDF-4275-9ABC-F05AFD1AE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8D58F-655D-422E-87FD-761AC16B5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11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6F747-965D-4961-9F77-C0E27BDC3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567DE-A9BE-43F6-B59F-2C7D86630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2832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5C105-4506-40CD-BD55-D6BD5F3D1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C4CB2-CAA8-4307-A4CD-AE7807D53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81BD3-5E83-45DD-B914-DE95FCD42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2832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1128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96850-3720-46DA-B8FF-69C95FF51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11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AB5F-366F-4E05-88FB-AB68FE4B8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2832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82832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48C67-C40C-439A-8AEA-6864264EA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82832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1128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C7A17-BC44-4F78-839A-CC974A1F7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1128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ADC99-7E64-4892-BE80-D96E16416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2832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128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82832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6FC6D-8A23-43EB-93A7-DA21A8E9C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9372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17616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1128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9372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17616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D0E26-4C00-469E-936E-5CE84989A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4AE7-369A-43D2-A0F7-01DE92344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2832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74C3-EE01-4615-9D1E-D4DD507B4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BE56-4A1F-49FE-8414-E607A9BB4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2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7EE6B-8114-4D22-9BEE-E0216EE0F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2832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1128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155C-D943-4FC4-B0BD-D8495713D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2832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2832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F685-F8C3-480D-AC15-DCD09AE9B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2832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1128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E8957-4B9D-44EF-81E4-E962E70D8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" Target="slide3.xml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1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D8D1C-A06A-4C53-881F-67D96492D59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>
            <a:hlinkClick r:id="rId2" action="ppaction://hlinksldjump"/>
          </p:cNvPr>
          <p:cNvSpPr/>
          <p:nvPr/>
        </p:nvSpPr>
        <p:spPr>
          <a:xfrm>
            <a:off x="7773840" y="28440"/>
            <a:ext cx="1351080" cy="324000"/>
          </a:xfrm>
          <a:prstGeom prst="roundRect">
            <a:avLst>
              <a:gd name="adj" fmla="val 0"/>
            </a:avLst>
          </a:prstGeom>
          <a:solidFill>
            <a:srgbClr val="ffe7ff"/>
          </a:solidFill>
          <a:ln w="19080">
            <a:solidFill>
              <a:srgbClr val="99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содерж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8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8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06C83-1096-4842-9B68-58154CC92535}" type="slidenum">
              <a:rPr b="0" lang="ru-RU" sz="1400" spc="-1" strike="noStrike">
                <a:solidFill>
                  <a:srgbClr val="8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>
            <a:hlinkClick r:id="rId2" action="ppaction://hlinksldjump"/>
          </p:cNvPr>
          <p:cNvSpPr/>
          <p:nvPr/>
        </p:nvSpPr>
        <p:spPr>
          <a:xfrm>
            <a:off x="7704000" y="0"/>
            <a:ext cx="1440000" cy="360360"/>
          </a:xfrm>
          <a:prstGeom prst="bevel">
            <a:avLst>
              <a:gd name="adj" fmla="val 12500"/>
            </a:avLst>
          </a:prstGeom>
          <a:solidFill>
            <a:srgbClr val="ffe7ff"/>
          </a:solidFill>
          <a:ln w="93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0066"/>
                </a:solidFill>
                <a:latin typeface="Arial"/>
              </a:rPr>
              <a:t>содерж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9760" y="6126120"/>
            <a:ext cx="247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800000"/>
                </a:solidFill>
                <a:latin typeface="Arial"/>
              </a:rPr>
              <a:t>12 апреля 2011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591320" y="0"/>
            <a:ext cx="1552680" cy="493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06800" y="5172120"/>
            <a:ext cx="4211640" cy="13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4960" indent="-264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Arial"/>
              </a:rPr>
              <a:t>Васинькина Н.Н.,</a:t>
            </a: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 </a:t>
            </a:r>
            <a:br>
              <a:rPr sz="2000"/>
            </a:b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учитель информатики и ИКТ</a:t>
            </a:r>
            <a:br>
              <a:rPr sz="2000"/>
            </a:br>
            <a:r>
              <a:rPr b="1" lang="ru-RU" sz="2000" spc="-1" strike="noStrike">
                <a:solidFill>
                  <a:srgbClr val="800000"/>
                </a:solidFill>
                <a:latin typeface="Arial"/>
              </a:rPr>
              <a:t>МОУ «СОШ №51» г. Саратова</a:t>
            </a:r>
            <a:br>
              <a:rPr sz="2000"/>
            </a:br>
            <a:r>
              <a:rPr b="1" lang="en-US" sz="2000" spc="-1" strike="noStrike">
                <a:solidFill>
                  <a:srgbClr val="800000"/>
                </a:solidFill>
                <a:latin typeface="Arial"/>
              </a:rPr>
              <a:t>natalivas2006@yandex.r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-1440" y="2349360"/>
            <a:ext cx="91440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Обзор возможных Исполнителей </a:t>
            </a:r>
            <a:br>
              <a:rPr sz="4400"/>
            </a:b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в заданиях ГИ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6.xml"/><Relationship Id="rId3" Type="http://schemas.openxmlformats.org/officeDocument/2006/relationships/slide" Target="slide7.xml"/><Relationship Id="rId4" Type="http://schemas.openxmlformats.org/officeDocument/2006/relationships/slide" Target="slide8.xml"/><Relationship Id="rId5" Type="http://schemas.openxmlformats.org/officeDocument/2006/relationships/slide" Target="slide9.xml"/><Relationship Id="rId6" Type="http://schemas.openxmlformats.org/officeDocument/2006/relationships/slide" Target="slide10.xml"/><Relationship Id="rId7" Type="http://schemas.openxmlformats.org/officeDocument/2006/relationships/slide" Target="slide11.xml"/><Relationship Id="rId8" Type="http://schemas.openxmlformats.org/officeDocument/2006/relationships/slide" Target="slide12.xml"/><Relationship Id="rId9" Type="http://schemas.openxmlformats.org/officeDocument/2006/relationships/slide" Target="slide13.xml"/><Relationship Id="rId10" Type="http://schemas.openxmlformats.org/officeDocument/2006/relationships/slide" Target="slide20.xml"/><Relationship Id="rId11" Type="http://schemas.openxmlformats.org/officeDocument/2006/relationships/slide" Target="slide21.xml"/><Relationship Id="rId12" Type="http://schemas.openxmlformats.org/officeDocument/2006/relationships/slide" Target="slide22.xml"/><Relationship Id="rId13" Type="http://schemas.openxmlformats.org/officeDocument/2006/relationships/slide" Target="slide23.xml"/><Relationship Id="rId14" Type="http://schemas.openxmlformats.org/officeDocument/2006/relationships/slide" Target="slide24.xml"/><Relationship Id="rId15" Type="http://schemas.openxmlformats.org/officeDocument/2006/relationships/slide" Target="slide25.xml"/><Relationship Id="rId16" Type="http://schemas.openxmlformats.org/officeDocument/2006/relationships/slide" Target="slide26.xml"/><Relationship Id="rId17" Type="http://schemas.openxmlformats.org/officeDocument/2006/relationships/slide" Target="slide26.xml"/><Relationship Id="rId18" Type="http://schemas.openxmlformats.org/officeDocument/2006/relationships/slide" Target="slide27.xml"/><Relationship Id="rId19" Type="http://schemas.openxmlformats.org/officeDocument/2006/relationships/slide" Target="slide28.xml"/><Relationship Id="rId20" Type="http://schemas.openxmlformats.org/officeDocument/2006/relationships/slide" Target="slide29.xml"/><Relationship Id="rId21" Type="http://schemas.openxmlformats.org/officeDocument/2006/relationships/slide" Target="slide31.xml"/><Relationship Id="rId22" Type="http://schemas.openxmlformats.org/officeDocument/2006/relationships/slide" Target="slide32.xml"/><Relationship Id="rId23" Type="http://schemas.openxmlformats.org/officeDocument/2006/relationships/slide" Target="slide34.xml"/><Relationship Id="rId24" Type="http://schemas.openxmlformats.org/officeDocument/2006/relationships/slide" Target="slide36.xml"/><Relationship Id="rId25" Type="http://schemas.openxmlformats.org/officeDocument/2006/relationships/slide" Target="slide37.xml"/><Relationship Id="rId26" Type="http://schemas.openxmlformats.org/officeDocument/2006/relationships/slide" Target="slide38.xml"/><Relationship Id="rId27" Type="http://schemas.openxmlformats.org/officeDocument/2006/relationships/slide" Target="slide39.xml"/><Relationship Id="rId28" Type="http://schemas.openxmlformats.org/officeDocument/2006/relationships/slide" Target="slide40.xml"/><Relationship Id="rId29" Type="http://schemas.openxmlformats.org/officeDocument/2006/relationships/slide" Target="slide14.xml"/><Relationship Id="rId30" Type="http://schemas.openxmlformats.org/officeDocument/2006/relationships/slide" Target="slide42.xml"/><Relationship Id="rId31" Type="http://schemas.openxmlformats.org/officeDocument/2006/relationships/slide" Target="slide44.xml"/><Relationship Id="rId32" Type="http://schemas.openxmlformats.org/officeDocument/2006/relationships/slide" Target="slide45.xml"/><Relationship Id="rId33" Type="http://schemas.openxmlformats.org/officeDocument/2006/relationships/slide" Target="slide46.xml"/><Relationship Id="rId34" Type="http://schemas.openxmlformats.org/officeDocument/2006/relationships/slide" Target="slide47.xml"/><Relationship Id="rId35" Type="http://schemas.openxmlformats.org/officeDocument/2006/relationships/slide" Target="slide48.xml"/><Relationship Id="rId36" Type="http://schemas.openxmlformats.org/officeDocument/2006/relationships/slide" Target="slide49.xml"/><Relationship Id="rId37" Type="http://schemas.openxmlformats.org/officeDocument/2006/relationships/slide" Target="slide50.xml"/><Relationship Id="rId38" Type="http://schemas.openxmlformats.org/officeDocument/2006/relationships/slide" Target="slide51.xml"/><Relationship Id="rId39" Type="http://schemas.openxmlformats.org/officeDocument/2006/relationships/slide" Target="slide52.xml"/><Relationship Id="rId40" Type="http://schemas.openxmlformats.org/officeDocument/2006/relationships/slide" Target="slide53.xml"/><Relationship Id="rId41" Type="http://schemas.openxmlformats.org/officeDocument/2006/relationships/slide" Target="slide54.xml"/><Relationship Id="rId42" Type="http://schemas.openxmlformats.org/officeDocument/2006/relationships/slide" Target="slide15.xml"/><Relationship Id="rId43" Type="http://schemas.openxmlformats.org/officeDocument/2006/relationships/slide" Target="slide15.xml"/><Relationship Id="rId44" Type="http://schemas.openxmlformats.org/officeDocument/2006/relationships/slide" Target="slide15.xml"/><Relationship Id="rId45" Type="http://schemas.openxmlformats.org/officeDocument/2006/relationships/slide" Target="slide15.xml"/><Relationship Id="rId46" Type="http://schemas.openxmlformats.org/officeDocument/2006/relationships/slide" Target="slide15.xml"/><Relationship Id="rId47" Type="http://schemas.openxmlformats.org/officeDocument/2006/relationships/slide" Target="slide16.xml"/><Relationship Id="rId48" Type="http://schemas.openxmlformats.org/officeDocument/2006/relationships/slide" Target="slide16.xml"/><Relationship Id="rId49" Type="http://schemas.openxmlformats.org/officeDocument/2006/relationships/slide" Target="slide16.xml"/><Relationship Id="rId50" Type="http://schemas.openxmlformats.org/officeDocument/2006/relationships/slide" Target="slide16.xml"/><Relationship Id="rId51" Type="http://schemas.openxmlformats.org/officeDocument/2006/relationships/slide" Target="slide16.xml"/><Relationship Id="rId52" Type="http://schemas.openxmlformats.org/officeDocument/2006/relationships/slide" Target="slide17.xml"/><Relationship Id="rId53" Type="http://schemas.openxmlformats.org/officeDocument/2006/relationships/slide" Target="slide18.xml"/><Relationship Id="rId54" Type="http://schemas.openxmlformats.org/officeDocument/2006/relationships/slide" Target="slide55.xml"/><Relationship Id="rId55" Type="http://schemas.openxmlformats.org/officeDocument/2006/relationships/slide" Target="slide56.xml"/><Relationship Id="rId56" Type="http://schemas.openxmlformats.org/officeDocument/2006/relationships/slide" Target="slide67.xml"/><Relationship Id="rId57" Type="http://schemas.openxmlformats.org/officeDocument/2006/relationships/slide" Target="slide57.xml"/><Relationship Id="rId58" Type="http://schemas.openxmlformats.org/officeDocument/2006/relationships/slide" Target="slide58.xml"/><Relationship Id="rId59" Type="http://schemas.openxmlformats.org/officeDocument/2006/relationships/slide" Target="slide59.xml"/><Relationship Id="rId60" Type="http://schemas.openxmlformats.org/officeDocument/2006/relationships/slide" Target="slide60.xml"/><Relationship Id="rId61" Type="http://schemas.openxmlformats.org/officeDocument/2006/relationships/slide" Target="slide63.xml"/><Relationship Id="rId62" Type="http://schemas.openxmlformats.org/officeDocument/2006/relationships/slide" Target="slide64.xml"/><Relationship Id="rId63" Type="http://schemas.openxmlformats.org/officeDocument/2006/relationships/slide" Target="slide65.xml"/><Relationship Id="rId64" Type="http://schemas.openxmlformats.org/officeDocument/2006/relationships/slide" Target="slide68.xml"/><Relationship Id="rId65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slide" Target="slide42.xml"/><Relationship Id="rId3" Type="http://schemas.openxmlformats.org/officeDocument/2006/relationships/slide" Target="slide44.xml"/><Relationship Id="rId4" Type="http://schemas.openxmlformats.org/officeDocument/2006/relationships/slide" Target="slide45.xml"/><Relationship Id="rId5" Type="http://schemas.openxmlformats.org/officeDocument/2006/relationships/slide" Target="slide46.xml"/><Relationship Id="rId6" Type="http://schemas.openxmlformats.org/officeDocument/2006/relationships/slide" Target="slide47.xml"/><Relationship Id="rId7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8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" Target="slide61.xml"/><Relationship Id="rId2" Type="http://schemas.openxmlformats.org/officeDocument/2006/relationships/slide" Target="slide61.xml"/><Relationship Id="rId3" Type="http://schemas.openxmlformats.org/officeDocument/2006/relationships/slide" Target="slide61.xml"/><Relationship Id="rId4" Type="http://schemas.openxmlformats.org/officeDocument/2006/relationships/slide" Target="slide61.xml"/><Relationship Id="rId5" Type="http://schemas.openxmlformats.org/officeDocument/2006/relationships/slide" Target="slide62.xml"/><Relationship Id="rId6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hyperlink" Target="http://prog.narod.ru/probl_parket.htm" TargetMode="External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hyperlink" Target="http://yudenisov.livejournal.com/8463.html" TargetMode="External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hyperlink" Target="http://kpolyakov.narod.ru/" TargetMode="External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11280" y="23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ИСПОЛНИТЕЛИ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ГИА 201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11280" y="486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Подготовка к экзамен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/>
          </p:nvPr>
        </p:nvSpPr>
        <p:spPr>
          <a:xfrm>
            <a:off x="250560" y="54936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Черепашке был дан для исполнения следующий алгоритм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Повтори   7   [Направо 33   Вперёд 10   Направо 39]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акая фигура появится на экране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4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авильный семиугольник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4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авильный треугольник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4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авильный пятиугольник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4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авильный четырнадцатиугольник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093080" y="613728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твет: 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732720" y="5950080"/>
            <a:ext cx="2411280" cy="90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0"/>
            <a:ext cx="525600" cy="5270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-360" y="6308640"/>
            <a:ext cx="36036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5092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овтори 5 [Вперёд 36 Направо 36 Вперёд 36 Направо 36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ая фигура появится на экран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авильный треуголь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авнобедренная трапе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авильный пятиуголь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авильный десятиуголь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093080" y="613728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твет: 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732720" y="5776920"/>
            <a:ext cx="2411280" cy="10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0" y="0"/>
            <a:ext cx="525600" cy="5270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581040" y="549360"/>
            <a:ext cx="856296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полнитель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Черепашка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емещается на экране компьютера, оставляя след в виде линии. В каждый конкретный момент известно положение исполнителя и направление его движения. У исполнителя существуют две команд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перёд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где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—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целое число), вызывающая передвижение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Черепашки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шагов в направлении движени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ff0000"/>
                </a:solidFill>
                <a:uFillTx/>
                <a:latin typeface="Arial"/>
              </a:rPr>
              <a:t>Налево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где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— целое число), вызывающая изменение направления движения на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радусов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тив часовой стрелк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лгоритм: Повтори 5 [Команда1, Команда2] означает, что последовательность команд в скобках повторяется 5 раз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2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Arial"/>
              </a:rPr>
              <a:t>Черепашке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был дан для исполнения следующий алгоритм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Повтори 8   [Вперёд 10 </a:t>
            </a:r>
            <a:r>
              <a:rPr b="1" lang="ru-RU" sz="3000" spc="-1" strike="noStrike">
                <a:solidFill>
                  <a:srgbClr val="ff0000"/>
                </a:solidFill>
                <a:latin typeface="Arial"/>
              </a:rPr>
              <a:t>Налево</a:t>
            </a: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40]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акая фигура появится на экране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незамкнутая ломаная лини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вадра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авильный девятиугольник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правильный восьмиугольник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093080" y="613728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твет: 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732720" y="5776920"/>
            <a:ext cx="2411280" cy="10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0" y="0"/>
            <a:ext cx="525600" cy="5270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title"/>
          </p:nvPr>
        </p:nvSpPr>
        <p:spPr>
          <a:xfrm>
            <a:off x="-360" y="6308640"/>
            <a:ext cx="36036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7093080" y="613728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твет: 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732720" y="5776920"/>
            <a:ext cx="2411280" cy="10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0" y="0"/>
            <a:ext cx="525600" cy="5270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610320" y="3271680"/>
            <a:ext cx="221148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743600" y="3264120"/>
            <a:ext cx="1105560" cy="19152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7201800" y="4245120"/>
            <a:ext cx="1105920" cy="19152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8313480" y="4250880"/>
            <a:ext cx="559800" cy="9694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 flipH="1">
            <a:off x="5524200" y="5222880"/>
            <a:ext cx="2211480" cy="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 flipV="1">
            <a:off x="5488920" y="3308760"/>
            <a:ext cx="1105920" cy="19152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049800" y="2329200"/>
            <a:ext cx="1105560" cy="191520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829560" y="2865600"/>
            <a:ext cx="5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60</a:t>
            </a:r>
            <a:r>
              <a:rPr b="0" lang="en-US" sz="2000" spc="-1" strike="noStrike" baseline="30000">
                <a:solidFill>
                  <a:srgbClr val="0033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7993080" y="3316320"/>
            <a:ext cx="600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60</a:t>
            </a:r>
            <a:r>
              <a:rPr b="0" lang="en-US" sz="2000" spc="-1" strike="noStrike" baseline="30000">
                <a:solidFill>
                  <a:srgbClr val="0033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8039160" y="4618080"/>
            <a:ext cx="622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60</a:t>
            </a:r>
            <a:r>
              <a:rPr b="0" lang="en-US" sz="2000" spc="-1" strike="noStrike" baseline="30000">
                <a:solidFill>
                  <a:srgbClr val="0033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838920" y="5230800"/>
            <a:ext cx="58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60</a:t>
            </a:r>
            <a:r>
              <a:rPr b="0" lang="en-US" sz="2000" spc="-1" strike="noStrike" baseline="30000">
                <a:solidFill>
                  <a:srgbClr val="0033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973840" y="4826160"/>
            <a:ext cx="42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60</a:t>
            </a:r>
            <a:r>
              <a:rPr b="0" lang="en-US" sz="2000" spc="-1" strike="noStrike" baseline="30000">
                <a:solidFill>
                  <a:srgbClr val="0033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756400" y="3446640"/>
            <a:ext cx="64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60</a:t>
            </a:r>
            <a:r>
              <a:rPr b="0" lang="en-US" sz="2000" spc="-1" strike="noStrike" baseline="30000">
                <a:solidFill>
                  <a:srgbClr val="003300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6578280" y="5226120"/>
            <a:ext cx="576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 flipH="1">
            <a:off x="7156080" y="5230800"/>
            <a:ext cx="576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H="1" flipV="1">
            <a:off x="6032880" y="4243320"/>
            <a:ext cx="288000" cy="49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 flipV="1">
            <a:off x="6318720" y="4737240"/>
            <a:ext cx="288000" cy="49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7178760" y="3271680"/>
            <a:ext cx="576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606360" y="3273480"/>
            <a:ext cx="576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8028360" y="3757320"/>
            <a:ext cx="288360" cy="49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7742880" y="3264480"/>
            <a:ext cx="288000" cy="4989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7726680" y="4738320"/>
            <a:ext cx="288000" cy="49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8012520" y="4245480"/>
            <a:ext cx="288000" cy="4989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273720" y="3745080"/>
            <a:ext cx="71640" cy="712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6321960" y="3267000"/>
            <a:ext cx="288360" cy="49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6036120" y="3760920"/>
            <a:ext cx="288360" cy="499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288120" y="36766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292720" y="1628640"/>
            <a:ext cx="3851280" cy="46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250560" y="90792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Черепашке был дан для исполнения следующий алгоритм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втори 9 [Вперёд 10  Направо 60  Вперёд 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Какая фигура появится на экране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4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правильный шестиугольник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4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незамкнутая ломаная лини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4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квадра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4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правильный девятиугольник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4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правильный треугольник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title"/>
          </p:nvPr>
        </p:nvSpPr>
        <p:spPr>
          <a:xfrm>
            <a:off x="-360" y="6308640"/>
            <a:ext cx="36036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94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500"/>
                            </p:stCondLst>
                            <p:childTnLst>
                              <p:par>
                                <p:cTn id="105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500"/>
                            </p:stCondLst>
                            <p:childTnLst>
                              <p:par>
                                <p:cTn id="10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13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4500"/>
                            </p:stCondLst>
                            <p:childTnLst>
                              <p:par>
                                <p:cTn id="121" nodeType="after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5500"/>
                            </p:stCondLst>
                            <p:childTnLst>
                              <p:par>
                                <p:cTn id="12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27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6000"/>
                            </p:stCondLst>
                            <p:childTnLst>
                              <p:par>
                                <p:cTn id="129" nodeType="after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31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7000"/>
                            </p:stCondLst>
                            <p:childTnLst>
                              <p:par>
                                <p:cTn id="1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5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7500"/>
                            </p:stCondLst>
                            <p:childTnLst>
                              <p:par>
                                <p:cTn id="137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8500"/>
                            </p:stCondLst>
                            <p:childTnLst>
                              <p:par>
                                <p:cTn id="1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9000"/>
                            </p:stCondLst>
                            <p:childTnLst>
                              <p:par>
                                <p:cTn id="145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/>
          </p:nvPr>
        </p:nvSpPr>
        <p:spPr>
          <a:xfrm>
            <a:off x="250920" y="189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Черепашке был дан для исполнения следующий алгорит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овтори 3 [Повтори 4 [Вперёд 30 Направо 50 Вперёд 30 Направо   130]   Направо   130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ая фигура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появится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 экран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4211640" y="2908440"/>
            <a:ext cx="4587840" cy="373860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611280" y="613728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твет: 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250920" y="5950080"/>
            <a:ext cx="2411280" cy="90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0"/>
            <a:ext cx="525600" cy="5270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/>
          </p:nvPr>
        </p:nvSpPr>
        <p:spPr>
          <a:xfrm>
            <a:off x="250560" y="342720"/>
            <a:ext cx="8435880" cy="128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им должно быть значение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цикл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втори 10 [Вперед 10 Направо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бы на экране появился правильный шестиугольник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250920" y="5086440"/>
                <a:ext cx="5761080" cy="863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x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n-2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8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num>
                      <m:den>
                        <m:r>
                          <m:t xml:space="preserve">n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6 - 2</m:t>
                        </m:r>
                        <m:r>
                          <m:t xml:space="preserve">)</m:t>
                        </m:r>
                        <m:r>
                          <m:t xml:space="preserve">⋅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18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 120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91" name=""/>
          <p:cNvSpPr/>
          <p:nvPr/>
        </p:nvSpPr>
        <p:spPr>
          <a:xfrm>
            <a:off x="250920" y="1628640"/>
            <a:ext cx="576108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ешение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способ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гол поворота Черепашки в вершине шестиугольника будет равен углу, смежному с внутренним углом, т.е.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n =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180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– x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250920" y="3789360"/>
            <a:ext cx="8642160" cy="125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Сумма внутренних углов правильного шестиугольника вычисляется по формуле </a:t>
            </a:r>
            <a:r>
              <a:rPr b="1" i="1" lang="ru-RU" sz="26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i="1" lang="en-US" sz="2600" spc="-1" strike="noStrike">
                <a:solidFill>
                  <a:srgbClr val="333399"/>
                </a:solidFill>
                <a:latin typeface="Arial"/>
              </a:rPr>
              <a:t>n</a:t>
            </a:r>
            <a:r>
              <a:rPr b="1" i="1" lang="ru-RU" sz="2600" spc="-1" strike="noStrike">
                <a:solidFill>
                  <a:srgbClr val="333399"/>
                </a:solidFill>
                <a:latin typeface="Arial"/>
              </a:rPr>
              <a:t>-2)х180</a:t>
            </a:r>
            <a:r>
              <a:rPr b="1" i="1" lang="ru-RU" sz="2600" spc="-1" strike="noStrike" baseline="30000">
                <a:solidFill>
                  <a:srgbClr val="333399"/>
                </a:solidFill>
                <a:latin typeface="Arial"/>
              </a:rPr>
              <a:t>0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, где </a:t>
            </a:r>
            <a:r>
              <a:rPr b="1" i="1" lang="en-US" sz="2400" spc="-1" strike="noStrike">
                <a:solidFill>
                  <a:srgbClr val="333399"/>
                </a:solidFill>
                <a:latin typeface="Arial"/>
              </a:rPr>
              <a:t>n</a:t>
            </a: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 =6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еличина одного внутреннего угл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x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199200" y="1628640"/>
            <a:ext cx="2160720" cy="1868760"/>
          </a:xfrm>
          <a:prstGeom prst="hexagon">
            <a:avLst>
              <a:gd name="adj" fmla="val 28906"/>
              <a:gd name="vf" fmla="val 115470"/>
            </a:avLst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732720" y="1628640"/>
            <a:ext cx="216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 flipV="1">
            <a:off x="7451640" y="1269000"/>
            <a:ext cx="720360" cy="717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497" y="1625"/>
                </a:moveTo>
                <a:arcTo wR="10800" hR="10800" stAng="-3489623" swAng="3489623"/>
                <a:lnTo>
                  <a:pt x="10800" y="10800"/>
                </a:lnTo>
                <a:close/>
              </a:path>
              <a:path fill="none" w="21600" h="21600">
                <a:moveTo>
                  <a:pt x="16497" y="1625"/>
                </a:moveTo>
                <a:arcTo wR="10800" hR="10800" stAng="-3489623" swAng="3489623"/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 rot="5400000">
            <a:off x="7452000" y="1268640"/>
            <a:ext cx="720000" cy="7196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7041798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7041798"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8172360" y="162864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60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093080" y="1989000"/>
            <a:ext cx="91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20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732720" y="6137280"/>
            <a:ext cx="24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твет:  6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732720" y="5776920"/>
            <a:ext cx="2411280" cy="10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8172360" y="1628640"/>
            <a:ext cx="53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50920" y="5950080"/>
            <a:ext cx="540072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3000"/>
          </a:bodyPr>
          <a:p>
            <a:pPr marL="216000" indent="-2160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n =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180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– x =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180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120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n-US" sz="28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60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7229520" y="1846440"/>
            <a:ext cx="371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0" y="0"/>
            <a:ext cx="727200" cy="5270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.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1000"/>
                            </p:stCondLst>
                            <p:childTnLst>
                              <p:par>
                                <p:cTn id="16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500"/>
                            </p:stCondLst>
                            <p:childTnLst>
                              <p:par>
                                <p:cTn id="167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2500"/>
                            </p:stCondLst>
                            <p:childTnLst>
                              <p:par>
                                <p:cTn id="17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3000"/>
                            </p:stCondLst>
                            <p:childTnLst>
                              <p:par>
                                <p:cTn id="174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6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1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6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xit" presetID="9">
                                  <p:stCondLst>
                                    <p:cond delay="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3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2000"/>
                            </p:stCondLst>
                            <p:childTnLst>
                              <p:par>
                                <p:cTn id="196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8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3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nodeType="afterEffect" fill="hold" presetClass="exit" presetID="9">
                                  <p:stCondLst>
                                    <p:cond delay="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06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500"/>
                            </p:stCondLst>
                            <p:childTnLst>
                              <p:par>
                                <p:cTn id="209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/>
          </p:nvPr>
        </p:nvSpPr>
        <p:spPr>
          <a:xfrm>
            <a:off x="250560" y="342720"/>
            <a:ext cx="8435880" cy="128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им должно быть значение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цикл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втори 10 [Вперед 10 Направо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бы на экране появился правильный шестиугольник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0" y="0"/>
            <a:ext cx="727200" cy="5270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0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20680" y="1757520"/>
            <a:ext cx="8642160" cy="21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ешение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I 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способ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мма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НЕШНИ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углов правильного многоугольника 360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У нас правильный шестиугольник </a:t>
            </a:r>
            <a:r>
              <a:rPr b="1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n =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360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/6 = 60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1332000" y="4149720"/>
            <a:ext cx="2160360" cy="1868400"/>
          </a:xfrm>
          <a:prstGeom prst="hexagon">
            <a:avLst>
              <a:gd name="adj" fmla="val 28907"/>
              <a:gd name="vf" fmla="val 115470"/>
            </a:avLst>
          </a:prstGeom>
          <a:solidFill>
            <a:srgbClr val="ffffcc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1865160" y="4149720"/>
            <a:ext cx="216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2584440" y="3790080"/>
            <a:ext cx="720360" cy="7174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6497" y="1625"/>
                </a:moveTo>
                <a:arcTo wR="10800" hR="10800" stAng="-3489623" swAng="3489623"/>
                <a:lnTo>
                  <a:pt x="10800" y="10800"/>
                </a:lnTo>
                <a:close/>
              </a:path>
              <a:path fill="none" w="21600" h="21600">
                <a:moveTo>
                  <a:pt x="16497" y="1625"/>
                </a:moveTo>
                <a:arcTo wR="10800" hR="10800" stAng="-3489623" swAng="3489623"/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3305160" y="414972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60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732720" y="6137280"/>
            <a:ext cx="24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твет:  6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6732720" y="5776920"/>
            <a:ext cx="2411280" cy="10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305160" y="4149720"/>
            <a:ext cx="53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932360" y="4149720"/>
            <a:ext cx="3600360" cy="1673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НО</a:t>
            </a: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данные </a:t>
            </a:r>
            <a:r>
              <a:rPr b="1" lang="en-US" sz="2200" spc="-1" strike="noStrike">
                <a:solidFill>
                  <a:srgbClr val="a50021"/>
                </a:solidFill>
                <a:latin typeface="Arial"/>
              </a:rPr>
              <a:t>рассуждения </a:t>
            </a:r>
            <a:br>
              <a:rPr sz="2200"/>
            </a:br>
            <a:r>
              <a:rPr b="1" lang="en-US" sz="2200" spc="-1" strike="noStrike">
                <a:solidFill>
                  <a:srgbClr val="a50021"/>
                </a:solidFill>
                <a:latin typeface="Arial"/>
              </a:rPr>
              <a:t>НЕ подходят для звезды -  угол поворота только через внутренний угол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rot="5400000">
            <a:off x="8303040" y="4737960"/>
            <a:ext cx="817560" cy="358920"/>
          </a:xfrm>
          <a:prstGeom prst="triangle">
            <a:avLst>
              <a:gd name="adj" fmla="val 50000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4572000" y="4033800"/>
            <a:ext cx="4343400" cy="180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1500"/>
                            </p:stCondLst>
                            <p:childTnLst>
                              <p:par>
                                <p:cTn id="230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2500"/>
                            </p:stCondLst>
                            <p:childTnLst>
                              <p:par>
                                <p:cTn id="2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6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3000"/>
                            </p:stCondLst>
                            <p:childTnLst>
                              <p:par>
                                <p:cTn id="238" nodeType="afterEffect" fill="hold" presetClass="exit" presetID="9">
                                  <p:stCondLst>
                                    <p:cond delay="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9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4000"/>
                            </p:stCondLst>
                            <p:childTnLst>
                              <p:par>
                                <p:cTn id="242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000"/>
                            </p:stCondLst>
                            <p:childTnLst>
                              <p:par>
                                <p:cTn id="246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5000"/>
                            </p:stCondLst>
                            <p:childTnLst>
                              <p:par>
                                <p:cTn id="249" nodeType="afterEffect" fill="hold" presetClass="exit" presetID="9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0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525600" cy="5270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9" name=""/>
          <p:cNvGrpSpPr/>
          <p:nvPr/>
        </p:nvGrpSpPr>
        <p:grpSpPr>
          <a:xfrm>
            <a:off x="6012000" y="1982880"/>
            <a:ext cx="2879640" cy="2886120"/>
            <a:chOff x="6012000" y="1982880"/>
            <a:chExt cx="2879640" cy="2886120"/>
          </a:xfrm>
        </p:grpSpPr>
        <p:sp>
          <p:nvSpPr>
            <p:cNvPr id="320" name=""/>
            <p:cNvSpPr/>
            <p:nvPr/>
          </p:nvSpPr>
          <p:spPr>
            <a:xfrm>
              <a:off x="6012000" y="1989000"/>
              <a:ext cx="2879640" cy="2880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6083280" y="1982880"/>
              <a:ext cx="2738160" cy="2609640"/>
            </a:xfrm>
            <a:custGeom>
              <a:avLst/>
              <a:gdLst/>
              <a:ahLst/>
              <a:rect l="l" t="t" r="r" b="b"/>
              <a:pathLst>
                <a:path w="1725" h="1644">
                  <a:moveTo>
                    <a:pt x="318" y="1639"/>
                  </a:moveTo>
                  <a:lnTo>
                    <a:pt x="861" y="0"/>
                  </a:lnTo>
                  <a:lnTo>
                    <a:pt x="1389" y="1644"/>
                  </a:lnTo>
                  <a:lnTo>
                    <a:pt x="0" y="625"/>
                  </a:lnTo>
                  <a:lnTo>
                    <a:pt x="1725" y="624"/>
                  </a:lnTo>
                  <a:lnTo>
                    <a:pt x="318" y="1639"/>
                  </a:lnTo>
                  <a:close/>
                </a:path>
              </a:pathLst>
            </a:custGeom>
            <a:noFill/>
            <a:ln w="38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2" name=""/>
          <p:cNvSpPr/>
          <p:nvPr/>
        </p:nvSpPr>
        <p:spPr>
          <a:xfrm flipV="1">
            <a:off x="7456320" y="709560"/>
            <a:ext cx="428760" cy="128448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7562880" y="1652760"/>
            <a:ext cx="225360" cy="720720"/>
          </a:xfrm>
          <a:custGeom>
            <a:avLst/>
            <a:gdLst/>
            <a:ahLst/>
            <a:rect l="l" t="t" r="r" b="b"/>
            <a:pathLst>
              <a:path w="142" h="454">
                <a:moveTo>
                  <a:pt x="0" y="0"/>
                </a:moveTo>
                <a:cubicBezTo>
                  <a:pt x="86" y="53"/>
                  <a:pt x="142" y="163"/>
                  <a:pt x="142" y="239"/>
                </a:cubicBezTo>
                <a:cubicBezTo>
                  <a:pt x="142" y="315"/>
                  <a:pt x="62" y="399"/>
                  <a:pt x="0" y="454"/>
                </a:cubicBezTo>
              </a:path>
            </a:pathLst>
          </a:custGeom>
          <a:noFill/>
          <a:ln w="38160">
            <a:solidFill>
              <a:srgbClr val="008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 flipV="1" rot="3610800">
            <a:off x="7162920" y="1585800"/>
            <a:ext cx="719640" cy="84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7055" y="1996"/>
                </a:moveTo>
                <a:arcTo wR="10800" hR="10800" stAng="-3276313" swAng="2202328"/>
                <a:lnTo>
                  <a:pt x="10800" y="10800"/>
                </a:lnTo>
                <a:close/>
              </a:path>
              <a:path fill="none" w="21600" h="21600">
                <a:moveTo>
                  <a:pt x="17055" y="1996"/>
                </a:moveTo>
                <a:arcTo wR="10800" hR="10800" stAng="-3276313" swAng="2202328"/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7812000" y="1428840"/>
            <a:ext cx="53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8000"/>
                </a:solidFill>
                <a:latin typeface="Arial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7250040" y="2325600"/>
            <a:ext cx="53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250920" y="343080"/>
            <a:ext cx="8435880" cy="80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втори 10 [Вперед 10 Направо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тобы на экране появилась правильная пятиугольная звезд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264960" y="1047600"/>
            <a:ext cx="57610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еш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гол поворота Черепашки в вершине звезды будет равен углу, смежному с внутренним углом, т.е.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n =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180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– x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6585120" y="3428640"/>
            <a:ext cx="1698480" cy="1192680"/>
            <a:chOff x="6585120" y="3428640"/>
            <a:chExt cx="1698480" cy="1192680"/>
          </a:xfrm>
        </p:grpSpPr>
        <p:sp>
          <p:nvSpPr>
            <p:cNvPr id="330" name=""/>
            <p:cNvSpPr/>
            <p:nvPr/>
          </p:nvSpPr>
          <p:spPr>
            <a:xfrm flipV="1">
              <a:off x="6585120" y="3428640"/>
              <a:ext cx="857160" cy="1174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452000" y="3429000"/>
              <a:ext cx="831600" cy="119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2" name=""/>
          <p:cNvSpPr/>
          <p:nvPr/>
        </p:nvSpPr>
        <p:spPr>
          <a:xfrm flipV="1" rot="3610800">
            <a:off x="7159680" y="2809800"/>
            <a:ext cx="719640" cy="8442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7055" y="1996"/>
                </a:moveTo>
                <a:arcTo wR="10800" hR="10800" stAng="-3276313" swAng="2202328"/>
                <a:lnTo>
                  <a:pt x="10800" y="10800"/>
                </a:lnTo>
                <a:close/>
              </a:path>
              <a:path fill="none" w="21600" h="21600">
                <a:moveTo>
                  <a:pt x="17055" y="1996"/>
                </a:moveTo>
                <a:arcTo wR="10800" hR="10800" stAng="-3276313" swAng="2202328"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7259760" y="3492360"/>
            <a:ext cx="55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95200" y="2854440"/>
            <a:ext cx="613584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нутренний угол звезды является вписанным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окружность.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оответствующий ему центральный угол вдвое больше вписанного,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.е.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∙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везда 5-угольная правильная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611280" y="0"/>
            <a:ext cx="68403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им должно быть значение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цикл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95200" y="4654440"/>
            <a:ext cx="864252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писанных углов 5 и они равны между собой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центральных углов 5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мма 5 центральных углов = 360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∙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60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0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5 =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72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= 36</a:t>
            </a:r>
            <a:r>
              <a:rPr b="1" lang="ru-RU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n =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180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 36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Arial"/>
              </a:rPr>
              <a:t>0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= 144</a:t>
            </a:r>
            <a:r>
              <a:rPr b="1" i="1" lang="ru-RU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6732720" y="6137280"/>
            <a:ext cx="24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твет:  144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6732720" y="5776920"/>
            <a:ext cx="2411280" cy="10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7151760" y="2422440"/>
            <a:ext cx="59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36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7812000" y="1428840"/>
            <a:ext cx="77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44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137360" y="3589200"/>
            <a:ext cx="59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72</a:t>
            </a:r>
            <a:r>
              <a:rPr b="1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0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8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1000"/>
                            </p:stCondLst>
                            <p:childTnLst>
                              <p:par>
                                <p:cTn id="264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1500"/>
                            </p:stCondLst>
                            <p:childTnLst>
                              <p:par>
                                <p:cTn id="267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500"/>
                            </p:stCondLst>
                            <p:childTnLst>
                              <p:par>
                                <p:cTn id="2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000"/>
                            </p:stCondLst>
                            <p:childTnLst>
                              <p:par>
                                <p:cTn id="285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1500"/>
                            </p:stCondLst>
                            <p:childTnLst>
                              <p:par>
                                <p:cTn id="288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500"/>
                            </p:stCondLst>
                            <p:childTnLst>
                              <p:par>
                                <p:cTn id="29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8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"/>
                            </p:stCondLst>
                            <p:childTnLst>
                              <p:par>
                                <p:cTn id="301" nodeType="after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3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2500"/>
                            </p:stCondLst>
                            <p:childTnLst>
                              <p:par>
                                <p:cTn id="30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6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3000"/>
                            </p:stCondLst>
                            <p:childTnLst>
                              <p:par>
                                <p:cTn id="309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4000"/>
                            </p:stCondLst>
                            <p:childTnLst>
                              <p:par>
                                <p:cTn id="31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4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fill="hold">
                            <p:stCondLst>
                              <p:cond delay="4500"/>
                            </p:stCondLst>
                            <p:childTnLst>
                              <p:par>
                                <p:cTn id="3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/>
          </p:nvPr>
        </p:nvSpPr>
        <p:spPr>
          <a:xfrm>
            <a:off x="236160" y="3068640"/>
            <a:ext cx="8907480" cy="378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ш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мма внешних углов многоугольника = 360°,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се углы правильного многоугольника равны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равны его внешние углы 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1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т.к. иначе ломаная не замкнётся!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9 сторон в 9-тиугольник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0" y="0"/>
            <a:ext cx="525600" cy="5270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732720" y="6137280"/>
            <a:ext cx="241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твет:  40, 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6732720" y="5776920"/>
            <a:ext cx="2411280" cy="10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"/>
          <p:cNvGrpSpPr/>
          <p:nvPr/>
        </p:nvGrpSpPr>
        <p:grpSpPr>
          <a:xfrm>
            <a:off x="660960" y="3429000"/>
            <a:ext cx="7786800" cy="2395440"/>
            <a:chOff x="660960" y="3429000"/>
            <a:chExt cx="7786800" cy="2395440"/>
          </a:xfrm>
        </p:grpSpPr>
        <p:sp>
          <p:nvSpPr>
            <p:cNvPr id="347" name=""/>
            <p:cNvSpPr/>
            <p:nvPr/>
          </p:nvSpPr>
          <p:spPr>
            <a:xfrm>
              <a:off x="7451640" y="3429000"/>
              <a:ext cx="360360" cy="1440000"/>
            </a:xfrm>
            <a:custGeom>
              <a:avLst/>
              <a:gdLst>
                <a:gd name="textAreaLeft" fmla="*/ 0 w 360360"/>
                <a:gd name="textAreaRight" fmla="*/ 129960 w 360360"/>
                <a:gd name="textAreaTop" fmla="*/ 37440 h 1440000"/>
                <a:gd name="textAreaBottom" fmla="*/ 1402560 h 1440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48" name=""/>
                <p:cNvSpPr txBox="1"/>
                <p:nvPr/>
              </p:nvSpPr>
              <p:spPr>
                <a:xfrm>
                  <a:off x="1332000" y="4732200"/>
                  <a:ext cx="2879640" cy="1092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  <m:r>
                        <m:t xml:space="preserve">=</m:t>
                      </m:r>
                      <m:f>
                        <m:num>
                          <m:sSup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360</m:t>
                              </m:r>
                            </m:e>
                            <m:sup>
                              <m:r>
                                <m:t xml:space="preserve">0</m:t>
                              </m:r>
                            </m:sup>
                          </m:sSup>
                        </m:num>
                        <m:den>
                          <m:r>
                            <m:t xml:space="preserve">9</m:t>
                          </m:r>
                        </m:den>
                      </m:f>
                      <m:r>
                        <m:t xml:space="preserve">=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40</m:t>
                          </m:r>
                        </m:e>
                        <m:sup>
                          <m:r>
                            <m:t xml:space="preserve">0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p:sp>
          <p:nvSpPr>
            <p:cNvPr id="349" name=""/>
            <p:cNvSpPr/>
            <p:nvPr/>
          </p:nvSpPr>
          <p:spPr>
            <a:xfrm>
              <a:off x="7861680" y="3789360"/>
              <a:ext cx="586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660960" y="4869000"/>
              <a:ext cx="5860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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190440" y="392040"/>
            <a:ext cx="8953560" cy="23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ерепашке был дан для исполнения следующий алгоритм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повтори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 [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вперед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10 </a:t>
            </a:r>
            <a:r>
              <a:rPr b="0" lang="ru-RU" sz="3200" spc="-1" strike="noStrike">
                <a:solidFill>
                  <a:srgbClr val="0000ff"/>
                </a:solidFill>
                <a:latin typeface="Arial"/>
              </a:rPr>
              <a:t>направо </a:t>
            </a:r>
            <a:r>
              <a:rPr b="1" lang="ru-RU" sz="3200" spc="-1" strike="noStrike">
                <a:solidFill>
                  <a:srgbClr val="0000ff"/>
                </a:solidFill>
                <a:latin typeface="Arial"/>
              </a:rPr>
              <a:t>Х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]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Какими должны быть значения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и минимальное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, чтобы на экране появился правильный девятиугольник?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выведите результат через запятую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0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3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Задания с кратким ответ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ычислит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71600" y="39204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 Государственной итоговой аттестации Исполнители встречаются в различных видах задач, например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дана система команд формального исполнителя, приведён конкретный алгоритм, результат работы которого  требуется определить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Задания с выбором ответ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дана система команд формального исполнителя, приведён некоторый алгоритм, требуется составить алгоритм с меньшим числом шагов, приводящий к такому же результату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Задания с кратким ответо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дана система команд формального исполнителя, требуется составить алгоритм, приводящий к конкретному результату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Задания с развёрнутым ответом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591320" y="0"/>
            <a:ext cx="1552680" cy="493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"/>
          <p:cNvSpPr/>
          <p:nvPr/>
        </p:nvSpPr>
        <p:spPr>
          <a:xfrm>
            <a:off x="0" y="5108400"/>
            <a:ext cx="9144000" cy="13636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/>
          </p:nvPr>
        </p:nvSpPr>
        <p:spPr>
          <a:xfrm>
            <a:off x="611280" y="-360"/>
            <a:ext cx="822960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сполнитель Вычислител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имеет следующую систему пронумерованных команд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множь на дв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ибавь единиц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ервая умножает число на два, а вторая прибавляет к числу единицу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лгоритм, преобразующий число 3 в число 26, записывается в виде последовательности команд 1121, что соответствуе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умножь   на  дв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 ∙ 2 = 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умножь   на   дв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 ∙ 2 = 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прибавь   единиц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2 + 1 = 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умножь   на  два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3 ∙ 2 = 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11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пишите порядок команд алгоритма, преобразующего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число 3 в число 2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содержащего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е более пяти коман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указывая лишь номера коман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0" y="0"/>
            <a:ext cx="549360" cy="459720"/>
          </a:xfrm>
          <a:prstGeom prst="rect">
            <a:avLst/>
          </a:prstGeom>
          <a:solidFill>
            <a:srgbClr val="ffe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 rot="5400000">
            <a:off x="8555400" y="6269760"/>
            <a:ext cx="817560" cy="358920"/>
          </a:xfrm>
          <a:prstGeom prst="triangle">
            <a:avLst>
              <a:gd name="adj" fmla="val 50000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602400" y="626436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еш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4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250920" y="3068640"/>
            <a:ext cx="4146480" cy="7635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50920" y="1628640"/>
            <a:ext cx="4155840" cy="5302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250920" y="549360"/>
            <a:ext cx="4155840" cy="1062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/>
          </p:nvPr>
        </p:nvSpPr>
        <p:spPr>
          <a:xfrm>
            <a:off x="191880" y="1628640"/>
            <a:ext cx="4211640" cy="506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Решим обратную задачу: </a:t>
            </a:r>
            <a:br>
              <a:rPr sz="1900"/>
            </a:b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получить </a:t>
            </a:r>
            <a:r>
              <a:rPr b="1" lang="en-US" sz="1900" spc="-1" strike="noStrike">
                <a:solidFill>
                  <a:srgbClr val="006600"/>
                </a:solidFill>
                <a:latin typeface="Arial"/>
              </a:rPr>
              <a:t>из числа 21 число 3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Применяемые команды также должны быть обратными к заданным командам исполнителя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дели  на  два;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9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вычти  единицу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Операция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дели на два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 выполняется только для чисел, кратных двойке, иначе она не будет обратной исходной команде </a:t>
            </a:r>
            <a:r>
              <a:rPr b="1" lang="en-US" sz="1900" spc="-1" strike="noStrike">
                <a:solidFill>
                  <a:srgbClr val="000000"/>
                </a:solidFill>
                <a:latin typeface="Arial"/>
              </a:rPr>
              <a:t>умножь   на  два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9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Для скорейшего получения из числа 21 числа 3 по возможности применяем операцию деления, а если это невозможно — операцию вычитания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2" name=""/>
          <p:cNvGraphicFramePr/>
          <p:nvPr/>
        </p:nvGraphicFramePr>
        <p:xfrm>
          <a:off x="4816440" y="814320"/>
          <a:ext cx="4171680" cy="3681360"/>
        </p:xfrm>
        <a:graphic>
          <a:graphicData uri="http://schemas.openxmlformats.org/drawingml/2006/table">
            <a:tbl>
              <a:tblPr/>
              <a:tblGrid>
                <a:gridCol w="2644560"/>
                <a:gridCol w="152712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«Обратная» коман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134928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олнение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команд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1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вычти  единиц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 1 = 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дели  на  дв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 : 2 = 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дели  на  дв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 : 2 = 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5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вычти  единиц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- 1=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60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вычти  единиц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-1=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63" name=""/>
          <p:cNvSpPr/>
          <p:nvPr/>
        </p:nvSpPr>
        <p:spPr>
          <a:xfrm>
            <a:off x="5651640" y="6137280"/>
            <a:ext cx="324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твет:  221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6372360" y="6154560"/>
            <a:ext cx="277164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flipV="1">
            <a:off x="5208480" y="1452240"/>
            <a:ext cx="0" cy="30560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50920" y="549360"/>
            <a:ext cx="379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Исходная задача: 3 → 21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1.  умножь на дв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.  прибавь единиц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757760" y="4695840"/>
            <a:ext cx="4248000" cy="13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Результат решения обратной задачи — полученную последовательность команд — переписываем в обратном порядке для получения ответа исходной задач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0" y="0"/>
            <a:ext cx="549360" cy="459720"/>
          </a:xfrm>
          <a:prstGeom prst="rect">
            <a:avLst/>
          </a:prstGeom>
          <a:solidFill>
            <a:srgbClr val="ffe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title"/>
          </p:nvPr>
        </p:nvSpPr>
        <p:spPr>
          <a:xfrm>
            <a:off x="-360" y="189000"/>
            <a:ext cx="804060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добные задачи принято решать «от ответ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500"/>
                            </p:stCondLst>
                            <p:childTnLst>
                              <p:par>
                                <p:cTn id="35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9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0" y="2622600"/>
            <a:ext cx="9144000" cy="995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37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Исполнитель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Делител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549000"/>
            <a:ext cx="86868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У исполнителя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Делитель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две команды, которым присвоены номер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. прибавь пять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. раздели на дв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ервая команда увеличивает число на экране на 5, вторая — уменьшает его в 2 раз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Запишите порядок команд в алгоритме получения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из числа 1 числа 13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содержащем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не более 5 команд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, указывая лишь номера команд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пример, последовательность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22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оответствует алгоритму, который преобразует число 7 в 8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 прибавь пять   (1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 раздели на два  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 прибавь пять   (1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 прибавь пять   (1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 раздели на два (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Если таких алгоритмов более одного, то запишите любой из ни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3" name=""/>
              <p:cNvSpPr txBox="1"/>
              <p:nvPr/>
            </p:nvSpPr>
            <p:spPr>
              <a:xfrm>
                <a:off x="250920" y="6111720"/>
                <a:ext cx="5761080" cy="576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+</m:t>
                        </m:r>
                        <m:r>
                          <m:t xml:space="preserve">5</m:t>
                        </m:r>
                      </m:e>
                    </m:acc>
                    <m:r>
                      <m:t xml:space="preserve">6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:</m:t>
                        </m:r>
                        <m:r>
                          <m:t xml:space="preserve">2</m:t>
                        </m:r>
                      </m:e>
                    </m:acc>
                    <m:r>
                      <m:t xml:space="preserve">3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+</m:t>
                        </m:r>
                        <m:r>
                          <m:t xml:space="preserve">5</m:t>
                        </m:r>
                      </m:e>
                    </m:acc>
                    <m:r>
                      <m:t xml:space="preserve">8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+</m:t>
                        </m:r>
                        <m:r>
                          <m:t xml:space="preserve">5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1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74" name=""/>
          <p:cNvSpPr/>
          <p:nvPr/>
        </p:nvSpPr>
        <p:spPr>
          <a:xfrm>
            <a:off x="5651640" y="6137280"/>
            <a:ext cx="324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твет:  12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0" y="6154560"/>
            <a:ext cx="601200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372360" y="6154560"/>
            <a:ext cx="277164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"/>
          <p:cNvSpPr/>
          <p:nvPr/>
        </p:nvSpPr>
        <p:spPr>
          <a:xfrm>
            <a:off x="5292720" y="907920"/>
            <a:ext cx="3851280" cy="3054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0" y="3981600"/>
            <a:ext cx="5308560" cy="1571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0" y="5343480"/>
            <a:ext cx="5308560" cy="15145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Исполнитель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Утроитель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403848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У исполнителя </a:t>
            </a:r>
            <a:r>
              <a:rPr b="1" i="1" lang="en-US" sz="2200" spc="-1" strike="noStrike">
                <a:solidFill>
                  <a:srgbClr val="000000"/>
                </a:solidFill>
                <a:latin typeface="Arial"/>
              </a:rPr>
              <a:t>Утроитель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две команды, которым присвоены номера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1. умножь на тр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2. вычти 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78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Первая из них утраивает число на экране,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вторая уменьшает его на 2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5330880" y="907560"/>
            <a:ext cx="39211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пишите порядок команд в алгоритме получения </a:t>
            </a:r>
            <a:br>
              <a:rPr sz="2400"/>
            </a:br>
            <a:r>
              <a:rPr b="1" lang="en-US" sz="2400" spc="-1" strike="noStrike">
                <a:solidFill>
                  <a:srgbClr val="006600"/>
                </a:solidFill>
                <a:latin typeface="Arial"/>
              </a:rPr>
              <a:t>из числа 9 числа 19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содержащем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е более 3 коман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указывая лишь номера коман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пример, 21211 — это алгорит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умножь на т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вычти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умножь на тр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вычти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вычти 2, — который преобразует число 2 в 8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3" name=""/>
              <p:cNvSpPr txBox="1"/>
              <p:nvPr/>
            </p:nvSpPr>
            <p:spPr>
              <a:xfrm>
                <a:off x="250920" y="3902040"/>
                <a:ext cx="4681440" cy="288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От_ответа_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  <m:acc>
                          <m:accPr>
                            <m:chr m:val="⃗"/>
                          </m:accPr>
                          <m:e/>
                        </m:acc>
                        <m:r>
                          <m:t xml:space="preserve">9</m:t>
                        </m:r>
                        <m:r>
                          <m:t xml:space="preserve">)</m:t>
                        </m:r>
                        <m:r>
                          <m:t xml:space="preserve">: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:3</m:t>
                            </m:r>
                          </m:e>
                        </m:acc>
                        <m:r>
                          <m:t xml:space="preserve">7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+</m:t>
                            </m:r>
                            <m:r>
                              <m:t xml:space="preserve">2</m:t>
                            </m:r>
                          </m:e>
                        </m:acc>
                        <m:r>
                          <m:t xml:space="preserve">9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Поэтому_решение:</m:t>
                        </m:r>
                      </m:e>
                      <m:e>
                        <m:r>
                          <m:t xml:space="preserve">9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acc>
                        <m:r>
                          <m:t xml:space="preserve">7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3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21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19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84" name=""/>
          <p:cNvSpPr/>
          <p:nvPr/>
        </p:nvSpPr>
        <p:spPr>
          <a:xfrm>
            <a:off x="5883120" y="6337440"/>
            <a:ext cx="324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твет:  2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0" y="3914640"/>
            <a:ext cx="5348160" cy="2943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372360" y="6465960"/>
            <a:ext cx="2771640" cy="39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5292720" y="907920"/>
            <a:ext cx="3851280" cy="1906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0" y="3789360"/>
            <a:ext cx="5308560" cy="17636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0" y="5343480"/>
            <a:ext cx="5308560" cy="15145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6840" y="188640"/>
            <a:ext cx="699444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Исполнитель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Удвоитель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4038480" cy="32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 исполнителя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Удвоитель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ве команды, которым присвоены номер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вычти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умножь на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ервая из них уменьшает число на экране на 3, вторая — удваивает ег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5343480" y="907560"/>
            <a:ext cx="374184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Запишите порядок команд в алгоритме получения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из числа 11 числа 1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содержащем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е более 3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команд, указывая лишь номера коман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апример, 212111 — это алгоритм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умножь на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ычти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умножь на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ычти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ычти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вычти 2, — который преобразует число 5 в 8.</a:t>
            </a:r>
            <a:br>
              <a:rPr sz="16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Если таких алгоритмов более одного, то запишите любой из ни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93" name=""/>
              <p:cNvSpPr txBox="1"/>
              <p:nvPr/>
            </p:nvSpPr>
            <p:spPr>
              <a:xfrm>
                <a:off x="204840" y="3789360"/>
                <a:ext cx="4937040" cy="293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От_ответа_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acc>
                          <m:accPr>
                            <m:chr m:val="⃗"/>
                          </m:accPr>
                          <m:e/>
                        </m:acc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r>
                          <m:t xml:space="preserve">)</m:t>
                        </m:r>
                        <m:r>
                          <m:t xml:space="preserve">: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e>
                        </m:acc>
                        <m:r>
                          <m:t xml:space="preserve">16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:2</m:t>
                            </m:r>
                          </m:e>
                        </m:acc>
                        <m:r>
                          <m:t xml:space="preserve">8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+</m:t>
                            </m:r>
                            <m:r>
                              <m:t xml:space="preserve">3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e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Поэтому_решение: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acc>
                        <m:r>
                          <m:t xml:space="preserve">8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2</m:t>
                            </m:r>
                          </m:e>
                        </m:acc>
                        <m:r>
                          <m:t xml:space="preserve">16</m:t>
                        </m:r>
                        <m:acc>
                          <m:accPr>
                            <m:chr m:val="⃗"/>
                          </m:accPr>
                          <m:e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13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94" name=""/>
          <p:cNvSpPr/>
          <p:nvPr/>
        </p:nvSpPr>
        <p:spPr>
          <a:xfrm>
            <a:off x="5651640" y="6137280"/>
            <a:ext cx="324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твет:  1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0" y="3789360"/>
            <a:ext cx="5356080" cy="306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6372360" y="6154560"/>
            <a:ext cx="277164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0" y="0"/>
            <a:ext cx="611280" cy="549360"/>
          </a:xfrm>
          <a:prstGeom prst="roundRect">
            <a:avLst>
              <a:gd name="adj" fmla="val 16667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4" dur="indefinite" restart="never" nodeType="tmRoot">
          <p:childTnLst>
            <p:seq>
              <p:cTn id="385" dur="indefinite" nodeType="mainSeq">
                <p:childTnLst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0" y="2487600"/>
            <a:ext cx="9144000" cy="995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699444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Исполнитель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Удвоител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6868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У исполнителя </a:t>
            </a: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Делитель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ве команды, которым присвоены номер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чти тр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множь на д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вая команда уменьшает число на экране на 3, вторая — увеличивает его в 2 раз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пишите порядок команд в алгоритме получения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з числа 16 числа 34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содержащем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е более 5 команд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указывая лишь номера коман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пример, последовательность 22121 соответствует алгоритму, который преобразует число 2 в 7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  умножь на два  (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 умножь на два  (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 вычти три    (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 умножь на два (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 вычти тр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(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Если таких алгоритмов более одного, то запишите любой из них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01" name=""/>
              <p:cNvSpPr txBox="1"/>
              <p:nvPr/>
            </p:nvSpPr>
            <p:spPr>
              <a:xfrm>
                <a:off x="250920" y="6218280"/>
                <a:ext cx="6011640" cy="45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6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13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10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2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20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−</m:t>
                        </m:r>
                        <m:r>
                          <m:t xml:space="preserve">3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17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2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3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02" name=""/>
          <p:cNvSpPr/>
          <p:nvPr/>
        </p:nvSpPr>
        <p:spPr>
          <a:xfrm>
            <a:off x="5651640" y="6137280"/>
            <a:ext cx="324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твет:  112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0" y="6154560"/>
            <a:ext cx="637236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6372360" y="6154560"/>
            <a:ext cx="277164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0" y="0"/>
            <a:ext cx="611280" cy="549360"/>
          </a:xfrm>
          <a:prstGeom prst="roundRect">
            <a:avLst>
              <a:gd name="adj" fmla="val 16667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4" dur="indefinite" restart="never" nodeType="tmRoot">
          <p:childTnLst>
            <p:seq>
              <p:cTn id="395" dur="indefinite" nodeType="mainSeq">
                <p:childTnLst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0" y="3789360"/>
            <a:ext cx="9144000" cy="995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6840" y="189000"/>
            <a:ext cx="6994440" cy="4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Исполнитель Вычислит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11280" y="1063800"/>
            <a:ext cx="8532720" cy="56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 исполнителя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Вычислитель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три команды, которым присвоены номер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ычти 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множь на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ибавь 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ервая из них уменьшает число на экране на 1, вторая — утраивает его, а третья увеличивает на 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пишите порядок команд в алгоритме получения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з числа 5 числа 23 за наименьшее число коман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пример, 211 — это алгорит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умножь на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вычти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вычти 1,— который преобразует число 7 в 19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0" y="0"/>
            <a:ext cx="549360" cy="459720"/>
          </a:xfrm>
          <a:prstGeom prst="rect">
            <a:avLst/>
          </a:prstGeom>
          <a:solidFill>
            <a:srgbClr val="ffe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rot="5400000">
            <a:off x="8555400" y="6269760"/>
            <a:ext cx="817560" cy="358920"/>
          </a:xfrm>
          <a:prstGeom prst="triangle">
            <a:avLst>
              <a:gd name="adj" fmla="val 50000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602400" y="626436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еш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0" y="1989000"/>
            <a:ext cx="9144000" cy="995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254720" y="4368960"/>
            <a:ext cx="757440" cy="6174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732720" y="5229360"/>
            <a:ext cx="360360" cy="376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7451640" y="4508640"/>
            <a:ext cx="360360" cy="376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7450200" y="3789360"/>
            <a:ext cx="360360" cy="376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4932360" y="3052800"/>
            <a:ext cx="360360" cy="376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6840" y="189000"/>
            <a:ext cx="6994440" cy="4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Исполнитель Вычислите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11280" y="907920"/>
            <a:ext cx="8532720" cy="20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ычти 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множь на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рибавь 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пишите порядок команд в алгоритме получения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з числа 5 числа 23 за наименьшее число коман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4932360" y="3052800"/>
            <a:ext cx="36036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 flipH="1">
            <a:off x="2410920" y="3429000"/>
            <a:ext cx="25210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105520" y="34732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5292720" y="3429000"/>
            <a:ext cx="2160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059280" y="33274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2252520" y="41702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2752560" y="41101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2052720" y="3789360"/>
            <a:ext cx="36036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4911840" y="3789360"/>
            <a:ext cx="36036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7451640" y="3789360"/>
            <a:ext cx="36036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 flipH="1">
            <a:off x="1332000" y="4149720"/>
            <a:ext cx="72072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411280" y="4149720"/>
            <a:ext cx="72072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255760" y="416412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419120" y="40654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5132520" y="42102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5632560" y="4149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 flipH="1">
            <a:off x="4211640" y="4189320"/>
            <a:ext cx="72072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5291280" y="4189320"/>
            <a:ext cx="72072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5135400" y="4203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4299120" y="41054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7672320" y="42102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172360" y="4149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 flipH="1">
            <a:off x="6751800" y="4189320"/>
            <a:ext cx="72072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7831080" y="4189320"/>
            <a:ext cx="72072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675560" y="420372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6838920" y="41054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971640" y="4508640"/>
            <a:ext cx="36036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052720" y="4508640"/>
            <a:ext cx="36036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771640" y="4508640"/>
            <a:ext cx="36036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4192560" y="4508640"/>
            <a:ext cx="36036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4911840" y="4508640"/>
            <a:ext cx="36036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5632560" y="4508640"/>
            <a:ext cx="36036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6732720" y="4508640"/>
            <a:ext cx="36036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7451640" y="4508640"/>
            <a:ext cx="36036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8532720" y="4508640"/>
            <a:ext cx="360360" cy="36828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6372360" y="3321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075280" y="3429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7674120" y="49309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*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8172360" y="4869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>
            <a:off x="6753240" y="4910040"/>
            <a:ext cx="72072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7832880" y="4910040"/>
            <a:ext cx="72072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7677000" y="492444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838920" y="48261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6732720" y="5229360"/>
            <a:ext cx="360360" cy="368280"/>
          </a:xfrm>
          <a:prstGeom prst="rect">
            <a:avLst/>
          </a:prstGeom>
          <a:solidFill>
            <a:srgbClr val="ffff00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360360" y="3789360"/>
            <a:ext cx="36036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0360" y="4508640"/>
            <a:ext cx="36036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60360" y="5229360"/>
            <a:ext cx="360360" cy="3682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5292720" y="3429000"/>
            <a:ext cx="2160720" cy="36036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672320" y="4154400"/>
            <a:ext cx="3240" cy="41904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 flipH="1">
            <a:off x="6761160" y="4897440"/>
            <a:ext cx="720720" cy="358920"/>
          </a:xfrm>
          <a:prstGeom prst="line">
            <a:avLst/>
          </a:prstGeom>
          <a:ln w="381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0" name=""/>
              <p:cNvSpPr txBox="1"/>
              <p:nvPr/>
            </p:nvSpPr>
            <p:spPr>
              <a:xfrm>
                <a:off x="360360" y="5605560"/>
                <a:ext cx="5987880" cy="722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5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+</m:t>
                        </m:r>
                        <m:r>
                          <m:t xml:space="preserve">3</m:t>
                        </m:r>
                      </m:e>
                    </m:acc>
                    <m:r>
                      <m:t xml:space="preserve">8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3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24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2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71" name=""/>
          <p:cNvSpPr/>
          <p:nvPr/>
        </p:nvSpPr>
        <p:spPr>
          <a:xfrm>
            <a:off x="6746760" y="6194520"/>
            <a:ext cx="216072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твет: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2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360360" y="5605560"/>
            <a:ext cx="6012000" cy="70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6372360" y="6154560"/>
            <a:ext cx="277164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 flipV="1">
            <a:off x="4673520" y="2844720"/>
            <a:ext cx="4044960" cy="6480"/>
          </a:xfrm>
          <a:prstGeom prst="line">
            <a:avLst/>
          </a:prstGeom>
          <a:ln w="763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4572000" y="907920"/>
            <a:ext cx="432108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Для решения 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данной</a:t>
            </a:r>
            <a:r>
              <a:rPr b="1" lang="en-US" sz="1800" spc="-1" strike="noStrike">
                <a:solidFill>
                  <a:srgbClr val="cc3300"/>
                </a:solidFill>
                <a:latin typeface="Arial"/>
              </a:rPr>
              <a:t> задачи полезно построить дерево. Строим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0" y="0"/>
            <a:ext cx="549360" cy="459720"/>
          </a:xfrm>
          <a:prstGeom prst="rect">
            <a:avLst/>
          </a:prstGeom>
          <a:solidFill>
            <a:srgbClr val="ffe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afterEffect" fill="hold" presetClass="emph" presetID="14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5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516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17" dur="1900" fill="hold">
                                          <p:stCondLst>
                                            <p:cond delay="10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Scale>
                                      <p:cBhvr>
                                        <p:cTn id="518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from x="100000" y="100000"/>
                                      <p:to x="100000" y="5000"/>
                                    </p:animScale>
                                    <p:animScale>
                                      <p:cBhvr>
                                        <p:cTn id="519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from x="100000" y="5000"/>
                                      <p:to x="120000" y="150000"/>
                                    </p:animScale>
                                    <p:animScale>
                                      <p:cBhvr>
                                        <p:cTn id="520" dur="600" fill="hold">
                                          <p:stCondLst>
                                            <p:cond delay="140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</p:cBhvr>
                                      <p:to x="12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5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fill="hold">
                            <p:stCondLst>
                              <p:cond delay="500"/>
                            </p:stCondLst>
                            <p:childTnLst>
                              <p:par>
                                <p:cTn id="571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"/>
          <p:cNvSpPr/>
          <p:nvPr/>
        </p:nvSpPr>
        <p:spPr>
          <a:xfrm>
            <a:off x="0" y="3184560"/>
            <a:ext cx="9186840" cy="1023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7354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Исполнитель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Конструкто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250560" y="907560"/>
            <a:ext cx="889308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 исполнителя Конструктор две команды, которым присвоены номер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приписать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разделить на 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ервая из них приписывает к числу на экране справа цифру 2, вторая – делит его на 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пишите порядок команд в алгоритме получения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з числа 1 числа 16, содержащем не более 5 команд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указывая только номера команд </a:t>
            </a:r>
            <a:br>
              <a:rPr sz="24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например, 22212 – это алгоритм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азделить на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азделить на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азделить на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иписать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разделить на 2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торый преобразует число 8 в число 6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Если таких алгоритмов более одного, запишите любой из них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 rot="5400000">
            <a:off x="8555400" y="4874400"/>
            <a:ext cx="817560" cy="358920"/>
          </a:xfrm>
          <a:prstGeom prst="triangle">
            <a:avLst>
              <a:gd name="adj" fmla="val 50000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6602400" y="486900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еш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0" y="0"/>
            <a:ext cx="549360" cy="4597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1</a:t>
            </a: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.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fill="hold">
                      <p:stCondLst>
                        <p:cond delay="0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1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4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/>
          <p:nvPr/>
        </p:nvSpPr>
        <p:spPr>
          <a:xfrm>
            <a:off x="358920" y="549360"/>
            <a:ext cx="861696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СК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. приписать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. разделить на 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лучить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з числа 1 число 16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максимум за 5 команд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4" name=""/>
          <p:cNvGrpSpPr/>
          <p:nvPr/>
        </p:nvGrpSpPr>
        <p:grpSpPr>
          <a:xfrm>
            <a:off x="349200" y="2349360"/>
            <a:ext cx="6300720" cy="3962520"/>
            <a:chOff x="349200" y="2349360"/>
            <a:chExt cx="6300720" cy="3962520"/>
          </a:xfrm>
        </p:grpSpPr>
        <p:sp>
          <p:nvSpPr>
            <p:cNvPr id="485" name=""/>
            <p:cNvSpPr/>
            <p:nvPr/>
          </p:nvSpPr>
          <p:spPr>
            <a:xfrm>
              <a:off x="4932360" y="2349360"/>
              <a:ext cx="360360" cy="37620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4932360" y="2349360"/>
              <a:ext cx="360360" cy="368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3850920" y="2725560"/>
              <a:ext cx="1081080" cy="360720"/>
            </a:xfrm>
            <a:prstGeom prst="line">
              <a:avLst/>
            </a:prstGeom>
            <a:ln w="572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292720" y="2725560"/>
              <a:ext cx="1158840" cy="37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165560" y="258120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265640" y="340668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3565440" y="3086280"/>
              <a:ext cx="360360" cy="368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 flipH="1">
              <a:off x="2844720" y="3446640"/>
              <a:ext cx="720720" cy="35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3924360" y="3446640"/>
              <a:ext cx="720720" cy="358560"/>
            </a:xfrm>
            <a:prstGeom prst="line">
              <a:avLst/>
            </a:prstGeom>
            <a:ln w="572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2932200" y="336240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589640" y="3790800"/>
              <a:ext cx="360360" cy="368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397240" y="3805200"/>
              <a:ext cx="446040" cy="368280"/>
            </a:xfrm>
            <a:prstGeom prst="rect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2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5807160" y="258912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360360" y="3086280"/>
              <a:ext cx="360360" cy="3682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60360" y="3805200"/>
              <a:ext cx="360360" cy="3682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60360" y="4525920"/>
              <a:ext cx="360360" cy="3682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I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5273640" y="412596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 flipH="1">
              <a:off x="3852720" y="4165560"/>
              <a:ext cx="720720" cy="35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932360" y="4149720"/>
              <a:ext cx="720720" cy="358920"/>
            </a:xfrm>
            <a:prstGeom prst="line">
              <a:avLst/>
            </a:prstGeom>
            <a:ln w="572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940200" y="408132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5597640" y="4510080"/>
              <a:ext cx="360360" cy="368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3405240" y="4524480"/>
              <a:ext cx="446040" cy="368280"/>
            </a:xfrm>
            <a:prstGeom prst="rect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6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6270480" y="482904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 flipH="1">
              <a:off x="4849920" y="4869000"/>
              <a:ext cx="720720" cy="358560"/>
            </a:xfrm>
            <a:prstGeom prst="line">
              <a:avLst/>
            </a:prstGeom>
            <a:ln w="572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5929200" y="4869000"/>
              <a:ext cx="720720" cy="358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4937040" y="478476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4402080" y="5227560"/>
              <a:ext cx="446040" cy="368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133960" y="554508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 flipH="1">
              <a:off x="3713040" y="5584680"/>
              <a:ext cx="720720" cy="35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4792680" y="5584680"/>
              <a:ext cx="720720" cy="358920"/>
            </a:xfrm>
            <a:prstGeom prst="line">
              <a:avLst/>
            </a:prstGeom>
            <a:ln w="5724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800520" y="550080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457960" y="5929200"/>
              <a:ext cx="360360" cy="3682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8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265560" y="5943600"/>
              <a:ext cx="446040" cy="368280"/>
            </a:xfrm>
            <a:prstGeom prst="rect">
              <a:avLst/>
            </a:prstGeom>
            <a:noFill/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32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49200" y="5186520"/>
              <a:ext cx="360360" cy="3682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I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49200" y="5907240"/>
              <a:ext cx="360360" cy="36828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V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0" name=""/>
          <p:cNvSpPr/>
          <p:nvPr/>
        </p:nvSpPr>
        <p:spPr>
          <a:xfrm>
            <a:off x="6356520" y="6194520"/>
            <a:ext cx="276516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твет: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22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6372360" y="6154560"/>
            <a:ext cx="277164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735480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Исполнитель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Конструкто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0" y="0"/>
            <a:ext cx="549360" cy="45972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50021"/>
                </a:solidFill>
                <a:latin typeface="Arial"/>
              </a:rPr>
              <a:t>1</a:t>
            </a:r>
            <a:r>
              <a:rPr b="1" lang="ru-RU" sz="2400" spc="-1" strike="noStrike">
                <a:solidFill>
                  <a:srgbClr val="a50021"/>
                </a:solidFill>
                <a:latin typeface="Arial"/>
              </a:rPr>
              <a:t>.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500"/>
                            </p:stCondLst>
                            <p:childTnLst>
                              <p:par>
                                <p:cTn id="604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257040" y="603360"/>
            <a:ext cx="8777520" cy="612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№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8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Задания с выбором одного отв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Черепаш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№№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4" action="ppaction://hlinksldjump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5" action="ppaction://hlinksldjump"/>
              </a:rPr>
              <a:t>4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6" action="ppaction://hlinksldjump"/>
              </a:rPr>
              <a:t>5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7" action="ppaction://hlinksldjump"/>
              </a:rPr>
              <a:t>6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8" action="ppaction://hlinksldjump"/>
              </a:rPr>
              <a:t>7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9" action="ppaction://hlinksldjump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№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16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Задания с кратким ответ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  <a:hlinkClick r:id="rId10" action="ppaction://hlinksldjump"/>
              </a:rPr>
              <a:t>Вычислител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11" action="ppaction://hlinksldjump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Делитель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12" action="ppaction://hlinksldjump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000" spc="-1" strike="noStrike" u="sng">
                <a:solidFill>
                  <a:srgbClr val="0000ff"/>
                </a:solidFill>
                <a:uFillTx/>
                <a:latin typeface="Arial"/>
                <a:hlinkClick r:id="rId13" action="ppaction://hlinksldjump"/>
              </a:rPr>
              <a:t>Утроитель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Удвоитель №№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14" action="ppaction://hlinksldjump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15" action="ppaction://hlinksldjump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  <a:hlinkClick r:id="rId16" action="ppaction://hlinksldjump"/>
              </a:rPr>
              <a:t>Вычислитель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17" action="ppaction://hlinksldjump"/>
              </a:rPr>
              <a:t>2.1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18" action="ppaction://hlinksldjump"/>
              </a:rPr>
              <a:t>2.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онструктор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19" action="ppaction://hlinksldjump"/>
              </a:rPr>
              <a:t>1.З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20" action="ppaction://hlinksldjump"/>
              </a:rPr>
              <a:t>1.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№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3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.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Задания с развёрнутым ответо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  <a:hlinkClick r:id="rId21" action="ppaction://hlinksldjump"/>
              </a:rPr>
              <a:t>Робот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№№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22" action="ppaction://hlinksldjump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23" action="ppaction://hlinksldjump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24" action="ppaction://hlinksldjump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25" action="ppaction://hlinksldjump"/>
              </a:rPr>
              <a:t>4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26" action="ppaction://hlinksldjump"/>
              </a:rPr>
              <a:t>5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27" action="ppaction://hlinksldjump"/>
              </a:rPr>
              <a:t>6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28" action="ppaction://hlinksldjump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ПОКА «Экзотика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дания с выбором одного ответа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репашка №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29" action="ppaction://hlinksldjump"/>
              </a:rPr>
              <a:t>9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  <a:hlinkClick r:id="rId30" action="ppaction://hlinksldjump"/>
              </a:rPr>
              <a:t>Кузнечик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№№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31" action="ppaction://hlinksldjump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32" action="ppaction://hlinksldjump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33" action="ppaction://hlinksldjump"/>
              </a:rPr>
              <a:t>3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34" action="ppaction://hlinksldjump"/>
              </a:rPr>
              <a:t>4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br>
              <a:rPr sz="24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репашка (?) 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  <a:hlinkClick r:id="rId35" action="ppaction://hlinksldjump"/>
              </a:rPr>
              <a:t>1.1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  <a:hlinkClick r:id="rId36" action="ppaction://hlinksldjump"/>
              </a:rPr>
              <a:t>1.2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  <a:hlinkClick r:id="rId37" action="ppaction://hlinksldjump"/>
              </a:rPr>
              <a:t>2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обот (?)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  <a:hlinkClick r:id="rId38" action="ppaction://hlinksldjump"/>
              </a:rPr>
              <a:t>1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000" spc="-1" strike="noStrike" u="sng">
                <a:solidFill>
                  <a:srgbClr val="0000ff"/>
                </a:solidFill>
                <a:uFillTx/>
                <a:latin typeface="Arial"/>
                <a:hlinkClick r:id="rId39" action="ppaction://hlinksldjump"/>
              </a:rPr>
              <a:t>Карандаш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№№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40" action="ppaction://hlinksldjump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41" action="ppaction://hlinksldjump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дания с кратким ответо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репашка №№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42" action="ppaction://hlinksldjump"/>
              </a:rPr>
              <a:t>10 (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43" action="ppaction://hlinksldjump"/>
              </a:rPr>
              <a:t>I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44" action="ppaction://hlinksldjump"/>
              </a:rPr>
              <a:t>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45" action="ppaction://hlinksldjump"/>
              </a:rPr>
              <a:t>сп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46" action="ppaction://hlinksldjump"/>
              </a:rPr>
              <a:t>.)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47" action="ppaction://hlinksldjump"/>
              </a:rPr>
              <a:t>10 (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Arial"/>
                <a:hlinkClick r:id="rId48" action="ppaction://hlinksldjump"/>
              </a:rPr>
              <a:t>II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49" action="ppaction://hlinksldjump"/>
              </a:rPr>
              <a:t>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50" action="ppaction://hlinksldjump"/>
              </a:rPr>
              <a:t>сп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51" action="ppaction://hlinksldjump"/>
              </a:rPr>
              <a:t>.)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52" action="ppaction://hlinksldjump"/>
              </a:rPr>
              <a:t>11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53" action="ppaction://hlinksldjump"/>
              </a:rPr>
              <a:t>12</a:t>
            </a:r>
            <a:br>
              <a:rPr sz="24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прыгунчик №№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54" action="ppaction://hlinksldjump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55" action="ppaction://hlinksldjump"/>
              </a:rPr>
              <a:t>2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2000" spc="-1" strike="noStrike" u="sng">
                <a:solidFill>
                  <a:srgbClr val="0000ff"/>
                </a:solidFill>
                <a:uFillTx/>
                <a:latin typeface="Arial"/>
                <a:hlinkClick r:id="rId56" action="ppaction://hlinksldjump"/>
              </a:rPr>
              <a:t>Чертёжни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дания с развёрнутым ответо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  <a:hlinkClick r:id="rId57" action="ppaction://hlinksldjump"/>
              </a:rPr>
              <a:t>Плиточни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  <a:hlinkClick r:id="rId58" action="ppaction://hlinksldjump"/>
              </a:rPr>
              <a:t>задание 1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  <a:hlinkClick r:id="rId59" action="ppaction://hlinksldjump"/>
              </a:rPr>
              <a:t>алгорит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задания 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  <a:hlinkClick r:id="rId60" action="ppaction://hlinksldjump"/>
              </a:rPr>
              <a:t>2)-3)</a:t>
            </a:r>
            <a:br>
              <a:rPr sz="2000"/>
            </a:b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  <a:hlinkClick r:id="rId61" action="ppaction://hlinksldjump"/>
              </a:rPr>
              <a:t>Черепашк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  <a:hlinkClick r:id="rId62" action="ppaction://hlinksldjump"/>
              </a:rPr>
              <a:t>задание и алгорит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  <a:hlinkClick r:id="rId63" action="ppaction://hlinksldjump"/>
              </a:rPr>
              <a:t>Чертёжн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сточники информации: </a:t>
            </a:r>
            <a:r>
              <a:rPr b="0" lang="ru-RU" sz="2400" spc="-1" strike="noStrike" u="sng">
                <a:solidFill>
                  <a:srgbClr val="0000ff"/>
                </a:solidFill>
                <a:uFillTx/>
                <a:latin typeface="Arial"/>
                <a:hlinkClick r:id="rId64" action="ppaction://hlinksldjump"/>
              </a:rPr>
              <a:t>перечен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745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«Исполнители в заданиях ГИ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591320" y="0"/>
            <a:ext cx="1552680" cy="493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4572000" y="190080"/>
            <a:ext cx="457200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СОДЕРЖ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/>
          </p:nvPr>
        </p:nvSpPr>
        <p:spPr>
          <a:xfrm>
            <a:off x="611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Задания с развёрнутым ответо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обо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250560" y="1052640"/>
            <a:ext cx="424476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У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Робот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есть четыре команды перемещения: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вверх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вниз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влево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вправо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и выполнении любой из этих команд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Робот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еремещается на одну клетку соответственно: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верх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↑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вниз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↓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влево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←,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право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→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Между соседними (по сторонам) клетками может стоять стена, через которую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Робот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ройти не может. Если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Робот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олучает команду передвижения через стену, то он разрушаетс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Четыре команды проверяют истинность условия отсутствия стены у каждой стороны той клетки, где находится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Робот: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верху свободно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низу свободно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лева свободно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справа свободно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Эти команды можно использовать с условием «если», имеющим следующий вид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если &lt;условие&gt; т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последовательность коман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вс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648320" y="981000"/>
            <a:ext cx="449568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следовательность команд — это одна или несколько любых команд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Робота.  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пример,   для   передвижения   на   одну   клетку   вправо,   если справа нет стенки, можно использовать такой алгоритм: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если справа свободно то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вправо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с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одном условии можно использовать несколько команд, используя логические связки: «и», «или», «не». Например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если (справа свободно) и (не снизу свободно) т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прав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с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ля повторения последовательности команд можно использовать цикл «пока», имеющий следующий вид: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ц пока &lt;условие&gt;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  последовательность команд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ц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пример, для движения вправо, пока это возможно, можно использовать следующий алгоритм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нц пока справа свободн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вправ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ц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Робота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есть команда закрасить, закрашивающая клетку, в которой находится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Робот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 настоящий момен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0" y="0"/>
            <a:ext cx="88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23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Исполнитель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Робот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умеет перемещаться по лабиринту, начерченному на плоскости, разбитой на клет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Выполните зад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79280" y="620640"/>
            <a:ext cx="896472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0" bIns="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а бесконечном поле имеются две длинные горизонтальные стены одинаковой длины. Длина стен неизвестна. Расстояние между ними — две клетки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Робот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аходится в одной из клеток, расположенной между стен. Начальное положение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Робота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еизвестно. Одно из возможных положений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Робота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приведено на рисунке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(Робот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обозначен буквой «Р»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Напишите для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Робота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алгоритм, закрашивающий все клетки, расположенные между стенами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Робот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должен закрасить только клетки, удовлетворяющие данному условию. Например, для рисунка выше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Робот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должен закрасить следующие клетки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Конечное расположение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Робота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может быть произвольным. Алгоритм должен решать задачу для произвольного размера стены и любого допустимого начального положения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Робо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Алгоритм напишите в текстовом редакторе и сохраните в текстовом файл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0" name="" descr=""/>
          <p:cNvPicPr/>
          <p:nvPr/>
        </p:nvPicPr>
        <p:blipFill>
          <a:blip r:embed="rId1"/>
          <a:stretch/>
        </p:blipFill>
        <p:spPr>
          <a:xfrm>
            <a:off x="2050920" y="1628640"/>
            <a:ext cx="4924440" cy="1524240"/>
          </a:xfrm>
          <a:prstGeom prst="rect">
            <a:avLst/>
          </a:prstGeom>
          <a:ln w="0">
            <a:noFill/>
          </a:ln>
        </p:spPr>
      </p:pic>
      <p:pic>
        <p:nvPicPr>
          <p:cNvPr id="531" name="" descr=""/>
          <p:cNvPicPr/>
          <p:nvPr/>
        </p:nvPicPr>
        <p:blipFill>
          <a:blip r:embed="rId2"/>
          <a:stretch/>
        </p:blipFill>
        <p:spPr>
          <a:xfrm>
            <a:off x="2050920" y="4005360"/>
            <a:ext cx="4915080" cy="1523880"/>
          </a:xfrm>
          <a:prstGeom prst="rect">
            <a:avLst/>
          </a:prstGeom>
          <a:ln w="0">
            <a:noFill/>
          </a:ln>
        </p:spPr>
      </p:pic>
      <p:sp>
        <p:nvSpPr>
          <p:cNvPr id="532" name=""/>
          <p:cNvSpPr/>
          <p:nvPr/>
        </p:nvSpPr>
        <p:spPr>
          <a:xfrm>
            <a:off x="0" y="0"/>
            <a:ext cx="525600" cy="5270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 rot="5400000">
            <a:off x="8555400" y="4874400"/>
            <a:ext cx="817560" cy="358920"/>
          </a:xfrm>
          <a:prstGeom prst="triangle">
            <a:avLst>
              <a:gd name="adj" fmla="val 50000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6602400" y="486900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еш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fill="hold">
                      <p:stCondLst>
                        <p:cond delay="0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2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5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63120" y="44280"/>
            <a:ext cx="7148520" cy="44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озможный вариант алгоритм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250920" y="188640"/>
            <a:ext cx="5914800" cy="66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лг Закрас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если сверху свободно 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вер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с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ц пока сверху не свободно не сверху свобод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лев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пра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ц пока сверху не свободно не сверху свобод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красит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прав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ц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низ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лев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ц пока снизу не свободно не снизу свободн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краси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лев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" descr=""/>
          <p:cNvPicPr/>
          <p:nvPr/>
        </p:nvPicPr>
        <p:blipFill>
          <a:blip r:embed="rId1"/>
          <a:stretch/>
        </p:blipFill>
        <p:spPr>
          <a:xfrm>
            <a:off x="4181400" y="620640"/>
            <a:ext cx="4783320" cy="1479600"/>
          </a:xfrm>
          <a:prstGeom prst="rect">
            <a:avLst/>
          </a:prstGeom>
          <a:ln w="0">
            <a:noFill/>
          </a:ln>
        </p:spPr>
      </p:pic>
      <p:pic>
        <p:nvPicPr>
          <p:cNvPr id="538" name="" descr=""/>
          <p:cNvPicPr/>
          <p:nvPr/>
        </p:nvPicPr>
        <p:blipFill>
          <a:blip r:embed="rId2"/>
          <a:stretch/>
        </p:blipFill>
        <p:spPr>
          <a:xfrm>
            <a:off x="4194000" y="3716280"/>
            <a:ext cx="4770720" cy="1479600"/>
          </a:xfrm>
          <a:prstGeom prst="rect">
            <a:avLst/>
          </a:prstGeom>
          <a:ln w="0">
            <a:noFill/>
          </a:ln>
        </p:spPr>
      </p:pic>
      <p:sp>
        <p:nvSpPr>
          <p:cNvPr id="539" name=""/>
          <p:cNvSpPr/>
          <p:nvPr/>
        </p:nvSpPr>
        <p:spPr>
          <a:xfrm flipV="1">
            <a:off x="1403280" y="2133360"/>
            <a:ext cx="2160720" cy="142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1403280" y="2133720"/>
            <a:ext cx="2160720" cy="142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 flipV="1">
            <a:off x="1476360" y="3428640"/>
            <a:ext cx="2160720" cy="142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1476360" y="3429000"/>
            <a:ext cx="2160720" cy="142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 flipV="1">
            <a:off x="1403280" y="5300280"/>
            <a:ext cx="1944720" cy="1429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1403280" y="5300640"/>
            <a:ext cx="2016360" cy="1443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0" y="0"/>
            <a:ext cx="525600" cy="5270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/>
          </p:nvPr>
        </p:nvSpPr>
        <p:spPr>
          <a:xfrm>
            <a:off x="-360" y="0"/>
            <a:ext cx="493236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 бесконечном поле имеется прямоугольник из стен. Длина противоположных стен прямоугольника неизвестна. Расстояние между противоположными стенами — не менее двух клеток.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Робот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ходится в одной из клеток, расположенной внутри прямоугольника из стен.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ачальное положение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Робота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неизвестн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Одно из возможных положений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Робот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иведено на рисунке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(Робот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бозначен буквой «Р»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апишите для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Робот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лгоритм, закрашивающий все внутренние угловые клетки прямоугольника из стен.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Робот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олжен закрасить только клетки, удовлетворяющие данному условию. Например, для исходного рисунка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Робот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олжен закрасить клетки, заштрихованные на рисунке ниж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нечное расположение 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Робот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ожет быть произвольным. Алгоритм должен решать задачу для произвольного размера стены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и любого допустимого начального расположения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Робота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лгоритм напишите в текстовом редакторе и сохраните в текстовом файл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7" name="" descr=""/>
          <p:cNvPicPr/>
          <p:nvPr/>
        </p:nvPicPr>
        <p:blipFill>
          <a:blip r:embed="rId1"/>
          <a:stretch/>
        </p:blipFill>
        <p:spPr>
          <a:xfrm>
            <a:off x="5184720" y="4076640"/>
            <a:ext cx="3959280" cy="1940040"/>
          </a:xfrm>
          <a:prstGeom prst="rect">
            <a:avLst/>
          </a:prstGeom>
          <a:ln w="0">
            <a:noFill/>
          </a:ln>
        </p:spPr>
      </p:pic>
      <p:pic>
        <p:nvPicPr>
          <p:cNvPr id="548" name="" descr=""/>
          <p:cNvPicPr/>
          <p:nvPr/>
        </p:nvPicPr>
        <p:blipFill>
          <a:blip r:embed="rId2"/>
          <a:stretch/>
        </p:blipFill>
        <p:spPr>
          <a:xfrm>
            <a:off x="5153040" y="1628640"/>
            <a:ext cx="3990960" cy="1962360"/>
          </a:xfrm>
          <a:prstGeom prst="rect">
            <a:avLst/>
          </a:prstGeom>
          <a:ln w="0">
            <a:noFill/>
          </a:ln>
        </p:spPr>
      </p:pic>
      <p:sp>
        <p:nvSpPr>
          <p:cNvPr id="549" name="PlaceHolder 2"/>
          <p:cNvSpPr>
            <a:spLocks noGrp="1"/>
          </p:cNvSpPr>
          <p:nvPr>
            <p:ph type="title"/>
          </p:nvPr>
        </p:nvSpPr>
        <p:spPr>
          <a:xfrm>
            <a:off x="4757760" y="909720"/>
            <a:ext cx="4386240" cy="35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Выполните зад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8589960" y="420840"/>
            <a:ext cx="525600" cy="5270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 rot="5400000">
            <a:off x="8541360" y="6238080"/>
            <a:ext cx="817560" cy="358560"/>
          </a:xfrm>
          <a:prstGeom prst="triangle">
            <a:avLst>
              <a:gd name="adj" fmla="val 50000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6588000" y="623268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еш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fill="hold">
                      <p:stCondLst>
                        <p:cond delay="0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2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5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/>
          </p:nvPr>
        </p:nvSpPr>
        <p:spPr>
          <a:xfrm>
            <a:off x="611280" y="764640"/>
            <a:ext cx="418608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нц пока слева свобод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влев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кц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нц пока сверху свобод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вверх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к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краси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ц пока справа свобод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прав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краси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ц пока снизу свобод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низ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красить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ц пока слева свободн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лев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ц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краси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457200" y="44280"/>
            <a:ext cx="6994440" cy="5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озможный вариант алгоритм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5" name="" descr=""/>
          <p:cNvPicPr/>
          <p:nvPr/>
        </p:nvPicPr>
        <p:blipFill>
          <a:blip r:embed="rId1"/>
          <a:stretch/>
        </p:blipFill>
        <p:spPr>
          <a:xfrm>
            <a:off x="5184720" y="4076640"/>
            <a:ext cx="3959280" cy="1940040"/>
          </a:xfrm>
          <a:prstGeom prst="rect">
            <a:avLst/>
          </a:prstGeom>
          <a:ln w="0">
            <a:noFill/>
          </a:ln>
        </p:spPr>
      </p:pic>
      <p:pic>
        <p:nvPicPr>
          <p:cNvPr id="556" name="" descr=""/>
          <p:cNvPicPr/>
          <p:nvPr/>
        </p:nvPicPr>
        <p:blipFill>
          <a:blip r:embed="rId2"/>
          <a:stretch/>
        </p:blipFill>
        <p:spPr>
          <a:xfrm>
            <a:off x="5153040" y="1628640"/>
            <a:ext cx="3990960" cy="1962360"/>
          </a:xfrm>
          <a:prstGeom prst="rect">
            <a:avLst/>
          </a:prstGeom>
          <a:ln w="0">
            <a:noFill/>
          </a:ln>
        </p:spPr>
      </p:pic>
      <p:sp>
        <p:nvSpPr>
          <p:cNvPr id="557" name=""/>
          <p:cNvSpPr/>
          <p:nvPr/>
        </p:nvSpPr>
        <p:spPr>
          <a:xfrm>
            <a:off x="8589960" y="420840"/>
            <a:ext cx="525600" cy="5270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/>
          </p:nvPr>
        </p:nvSpPr>
        <p:spPr>
          <a:xfrm>
            <a:off x="0" y="549360"/>
            <a:ext cx="76248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 бесконечном поле клеток имеется вертикальная стена. Длина стены неизвестна. Робот размещён в одной из клеток непосредственно справа от стены. Точная начальная позиция Робота неизвестна. Возможное начальное положение Робота приведено на рисунке буквой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)Напишите для Робота алгоритм, закрашивающий все клетки, расположенные справа от стены и прилегающие к ней. Например, для приведённого начального значения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Робот должен закрасить следующие клетки (см. рис.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онечное положение Робота может быть произвольным. Алгоритм должен решать задачу для произвольного размера стены и любой допустимой начальной позиции Робо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пишите алгоритм в текстовом редакторе и сохраните на рабочем столе в текстовом файле с именем «алгоритм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9" name=""/>
          <p:cNvGrpSpPr/>
          <p:nvPr/>
        </p:nvGrpSpPr>
        <p:grpSpPr>
          <a:xfrm>
            <a:off x="7539120" y="2349360"/>
            <a:ext cx="1604880" cy="2708280"/>
            <a:chOff x="7539120" y="2349360"/>
            <a:chExt cx="1604880" cy="2708280"/>
          </a:xfrm>
        </p:grpSpPr>
        <p:pic>
          <p:nvPicPr>
            <p:cNvPr id="560" name="" descr=""/>
            <p:cNvPicPr/>
            <p:nvPr/>
          </p:nvPicPr>
          <p:blipFill>
            <a:blip r:embed="rId1"/>
            <a:stretch/>
          </p:blipFill>
          <p:spPr>
            <a:xfrm>
              <a:off x="7539120" y="2349360"/>
              <a:ext cx="1604880" cy="270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1" name=""/>
            <p:cNvSpPr/>
            <p:nvPr/>
          </p:nvSpPr>
          <p:spPr>
            <a:xfrm>
              <a:off x="7799400" y="3500280"/>
              <a:ext cx="3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2" name=""/>
          <p:cNvSpPr/>
          <p:nvPr/>
        </p:nvSpPr>
        <p:spPr>
          <a:xfrm>
            <a:off x="8618400" y="741240"/>
            <a:ext cx="525600" cy="5270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title"/>
          </p:nvPr>
        </p:nvSpPr>
        <p:spPr>
          <a:xfrm>
            <a:off x="1332000" y="190080"/>
            <a:ext cx="4386240" cy="3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Выполните зад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/>
          </p:nvPr>
        </p:nvSpPr>
        <p:spPr>
          <a:xfrm>
            <a:off x="-360" y="549360"/>
            <a:ext cx="745164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На бесконечном поле клеток имеется вертикальная стена. Длина стены неизвестна. Робот размещён в одной из клеток непосредственно справа от стены. Точная начальная позиция Робота неизвестна. Возможное начальное положение Робота приведено на рисунке (символом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а)Напишите для Робота алгоритм, закрашивающий клетки через одну,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начиная с самой нижней клетки,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расположенные справа от стены и прилегающие к ней. Например, для начального положения Р Робот должен закрасить следующие клетки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Конечное положение Робота может быть произвольным. Алгоритм должен решать задачу для произвольного размера стены и любой допустимой начальной позиции Робот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Запишите алгоритм в текстовом редакторе и сохраните на рабочем столе в текстовом файле с именем «алгоритм»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5" name=""/>
          <p:cNvGrpSpPr/>
          <p:nvPr/>
        </p:nvGrpSpPr>
        <p:grpSpPr>
          <a:xfrm>
            <a:off x="7218360" y="1628640"/>
            <a:ext cx="1674720" cy="2708280"/>
            <a:chOff x="7218360" y="1628640"/>
            <a:chExt cx="1674720" cy="2708280"/>
          </a:xfrm>
        </p:grpSpPr>
        <p:pic>
          <p:nvPicPr>
            <p:cNvPr id="566" name="" descr=""/>
            <p:cNvPicPr/>
            <p:nvPr/>
          </p:nvPicPr>
          <p:blipFill>
            <a:blip r:embed="rId1"/>
            <a:stretch/>
          </p:blipFill>
          <p:spPr>
            <a:xfrm>
              <a:off x="7218360" y="1628640"/>
              <a:ext cx="1674720" cy="270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7" name=""/>
            <p:cNvSpPr/>
            <p:nvPr/>
          </p:nvSpPr>
          <p:spPr>
            <a:xfrm>
              <a:off x="7877160" y="241452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Р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8" name=""/>
          <p:cNvSpPr/>
          <p:nvPr/>
        </p:nvSpPr>
        <p:spPr>
          <a:xfrm flipV="1">
            <a:off x="1436760" y="3903480"/>
            <a:ext cx="6575400" cy="3078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8618400" y="549360"/>
            <a:ext cx="525600" cy="5270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title"/>
          </p:nvPr>
        </p:nvSpPr>
        <p:spPr>
          <a:xfrm>
            <a:off x="1332000" y="190080"/>
            <a:ext cx="4386240" cy="3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Выполните зад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/>
          </p:nvPr>
        </p:nvSpPr>
        <p:spPr>
          <a:xfrm>
            <a:off x="0" y="4868640"/>
            <a:ext cx="896616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онечное расположение Робота может быть произвольным. Алгоритм должен решать задачу для произвольного размера поля и любого допустимого расположения стены внутри прямоугольного поля. При исполнении алгоритма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обот не должен разрушить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Алгоритм напишите в текстовом редакторе и сохраните в текстовом файле. Название файла и каталог для сохранения вам сообщат организаторы экзамен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5997600" y="549360"/>
            <a:ext cx="2519280" cy="1373040"/>
          </a:xfrm>
          <a:prstGeom prst="rect">
            <a:avLst/>
          </a:prstGeom>
          <a:ln w="0">
            <a:noFill/>
          </a:ln>
        </p:spPr>
      </p:pic>
      <p:pic>
        <p:nvPicPr>
          <p:cNvPr id="573" name="" descr=""/>
          <p:cNvPicPr/>
          <p:nvPr/>
        </p:nvPicPr>
        <p:blipFill>
          <a:blip r:embed="rId2"/>
          <a:stretch/>
        </p:blipFill>
        <p:spPr>
          <a:xfrm>
            <a:off x="5761080" y="3068640"/>
            <a:ext cx="3132000" cy="1701720"/>
          </a:xfrm>
          <a:prstGeom prst="rect">
            <a:avLst/>
          </a:prstGeom>
          <a:ln w="0">
            <a:noFill/>
          </a:ln>
        </p:spPr>
      </p:pic>
      <p:sp>
        <p:nvSpPr>
          <p:cNvPr id="574" name=""/>
          <p:cNvSpPr/>
          <p:nvPr/>
        </p:nvSpPr>
        <p:spPr>
          <a:xfrm>
            <a:off x="8618400" y="549360"/>
            <a:ext cx="525600" cy="5270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250920" y="171360"/>
            <a:ext cx="5761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 бесконечном поле имеется горизонтальная стена. Длина стены неизвестна. От правого конца стены вверх отходит вертикальная стена также неизвестной длины. Робот находится в углу между вертикальной и горизонтальной стеной. На рисунке указана один из возможных способов расположения стен и Робота (расположение Робота обозначено буквой «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»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250920" y="2576520"/>
            <a:ext cx="5400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апишите алгоритм для Робота, закрашивающий все клетки, расположенные выше горизонтальной стены и левее вертикальной стены и прилегающие к ним. Робот должен закрасить только клетки, удовлетворяющие заданному условию. Например, для приведённого рисунка Робот должен закрасить следующие клетк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/>
          </p:nvPr>
        </p:nvSpPr>
        <p:spPr>
          <a:xfrm>
            <a:off x="250560" y="549000"/>
            <a:ext cx="88930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 бесконечном поле имеется длинная горизонтальная стена. Длина стены неизвестна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Робот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ходится в одной из клеток, расположенной непосредственно сверху от стены. Одно из возможных положений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Робот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ведено на рисунке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Робот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обозначен буквой «Р»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пишите для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Робот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лгоритм, закрашивающий все клетки, расположенные ниже стены и прилегающие к ней, причём через одну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чиная с последней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?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пример, для приведённого рисунка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Робот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должен закрасить следующие клетки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8" name="" descr=""/>
          <p:cNvPicPr/>
          <p:nvPr/>
        </p:nvPicPr>
        <p:blipFill>
          <a:blip r:embed="rId1"/>
          <a:stretch/>
        </p:blipFill>
        <p:spPr>
          <a:xfrm>
            <a:off x="2797200" y="2451240"/>
            <a:ext cx="3600360" cy="722160"/>
          </a:xfrm>
          <a:prstGeom prst="rect">
            <a:avLst/>
          </a:prstGeom>
          <a:ln w="0">
            <a:noFill/>
          </a:ln>
        </p:spPr>
      </p:pic>
      <p:pic>
        <p:nvPicPr>
          <p:cNvPr id="579" name="" descr=""/>
          <p:cNvPicPr/>
          <p:nvPr/>
        </p:nvPicPr>
        <p:blipFill>
          <a:blip r:embed="rId2"/>
          <a:stretch/>
        </p:blipFill>
        <p:spPr>
          <a:xfrm>
            <a:off x="611280" y="5491080"/>
            <a:ext cx="3838320" cy="771480"/>
          </a:xfrm>
          <a:prstGeom prst="rect">
            <a:avLst/>
          </a:prstGeom>
          <a:ln w="0">
            <a:noFill/>
          </a:ln>
        </p:spPr>
      </p:pic>
      <p:sp>
        <p:nvSpPr>
          <p:cNvPr id="580" name=""/>
          <p:cNvSpPr/>
          <p:nvPr/>
        </p:nvSpPr>
        <p:spPr>
          <a:xfrm>
            <a:off x="7588080" y="621180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250920" y="0"/>
            <a:ext cx="525240" cy="5270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2" name="" descr=""/>
          <p:cNvPicPr/>
          <p:nvPr/>
        </p:nvPicPr>
        <p:blipFill>
          <a:blip r:embed="rId3"/>
          <a:stretch/>
        </p:blipFill>
        <p:spPr>
          <a:xfrm>
            <a:off x="4932360" y="5491080"/>
            <a:ext cx="3648240" cy="771480"/>
          </a:xfrm>
          <a:prstGeom prst="rect">
            <a:avLst/>
          </a:prstGeom>
          <a:ln w="0">
            <a:noFill/>
          </a:ln>
        </p:spPr>
      </p:pic>
      <p:sp>
        <p:nvSpPr>
          <p:cNvPr id="583" name=""/>
          <p:cNvSpPr/>
          <p:nvPr/>
        </p:nvSpPr>
        <p:spPr>
          <a:xfrm>
            <a:off x="3490920" y="621036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(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61128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8. Задания с выбором одного отве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Черепаш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/>
          </p:nvPr>
        </p:nvSpPr>
        <p:spPr>
          <a:xfrm>
            <a:off x="457200" y="907920"/>
            <a:ext cx="822960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 бесконечном поле имеется длинная горизонтальная стена (длина стены равна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чётному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числу клеток). Длина стены неизвестна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Робот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ходится в одной из клеток, расположенной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епосредственно сверху от стены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пишите для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Робот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лгоритм, закрашивающий все клетки, расположенные выше и ниже стены и прилегающие к ней, причём через одну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чиная с первой нижней правой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5" name="" descr=""/>
          <p:cNvPicPr/>
          <p:nvPr/>
        </p:nvPicPr>
        <p:blipFill>
          <a:blip r:embed="rId1"/>
          <a:stretch/>
        </p:blipFill>
        <p:spPr>
          <a:xfrm>
            <a:off x="6372360" y="5229360"/>
            <a:ext cx="2609640" cy="904680"/>
          </a:xfrm>
          <a:prstGeom prst="rect">
            <a:avLst/>
          </a:prstGeom>
          <a:ln w="0">
            <a:noFill/>
          </a:ln>
        </p:spPr>
      </p:pic>
      <p:pic>
        <p:nvPicPr>
          <p:cNvPr id="586" name="" descr=""/>
          <p:cNvPicPr/>
          <p:nvPr/>
        </p:nvPicPr>
        <p:blipFill>
          <a:blip r:embed="rId2"/>
          <a:stretch/>
        </p:blipFill>
        <p:spPr>
          <a:xfrm>
            <a:off x="6372360" y="2708280"/>
            <a:ext cx="2619360" cy="914400"/>
          </a:xfrm>
          <a:prstGeom prst="rect">
            <a:avLst/>
          </a:prstGeom>
          <a:ln w="0">
            <a:noFill/>
          </a:ln>
        </p:spPr>
      </p:pic>
      <p:sp>
        <p:nvSpPr>
          <p:cNvPr id="587" name=""/>
          <p:cNvSpPr/>
          <p:nvPr/>
        </p:nvSpPr>
        <p:spPr>
          <a:xfrm>
            <a:off x="8618400" y="549360"/>
            <a:ext cx="525600" cy="5270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/>
          </p:nvPr>
        </p:nvSpPr>
        <p:spPr>
          <a:xfrm>
            <a:off x="250560" y="907920"/>
            <a:ext cx="8893080" cy="50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36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КА «Экзотик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2700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дания с выбором одного ответа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ерепашка №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9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Кузнечик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№№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1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hlinkClick r:id="rId4" action="ppaction://hlinksldjump"/>
              </a:rPr>
              <a:t>2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hlinkClick r:id="rId5" action="ppaction://hlinksldjump"/>
              </a:rPr>
              <a:t>3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3200" spc="-1" strike="noStrike" u="sng">
                <a:solidFill>
                  <a:srgbClr val="0000ff"/>
                </a:solidFill>
                <a:uFillTx/>
                <a:latin typeface="Arial"/>
                <a:hlinkClick r:id="rId6" action="ppaction://hlinksldjump"/>
              </a:rPr>
              <a:t>4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br>
              <a:rPr sz="32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ерепашка (?)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.1, 1.2, 2,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обот (?)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1,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рандаш №№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, 2,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2700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дания с кратким ответо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ерепашка №№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0 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сп.), 10 (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сп.), 11, 12</a:t>
            </a:r>
            <a:br>
              <a:rPr sz="32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прыгунчик №№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, 2,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ертёжни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2700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дания с развёрнутым ответом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литочник: задание 1), алгоритм, задания 2)-3)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ерепашка: задание и алгорит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12880" indent="-2700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ертёжн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0" y="274680"/>
            <a:ext cx="91440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Исполнитель 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Кузнечик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живёт на числовой ос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чальное положение — точка 0.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истема команд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Кузнечик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перёд 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—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Кузнечик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ыгает вперёд на 3 единиц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назад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—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Кузнечик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ыгает назад на 2 единиц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закрась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— текущая позиция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Кузнечик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закрашивается в красный цвет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словия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могут быть следующими: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чётно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— проверка того, что текущее положение — чётное число,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ложительно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— проверка того, что текущее положение — число &gt; 0,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трицательно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— проверка того, что текущее положение — число &lt; 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/>
          </p:nvPr>
        </p:nvSpPr>
        <p:spPr>
          <a:xfrm>
            <a:off x="324000" y="765000"/>
            <a:ext cx="8686800" cy="1727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перёд 3 назад 2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СЛИ </a:t>
            </a: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чётно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ТО назад 2 закрась ИНАЧЕ вперёд 3 вперёд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_____________________________________________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50920" y="4941720"/>
            <a:ext cx="8686800" cy="1727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перёд 3 назад 2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СЛИ </a:t>
            </a: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чётно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ТО назад 2 закрась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ИНАЧЕ вперёд 3 вперёд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349200" y="2492280"/>
            <a:ext cx="868680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пределите, сколько точек на числовой прямой будет закрашено в результате выполнения этого алгорит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) 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) 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) 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)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7812000" y="1989000"/>
            <a:ext cx="1130400" cy="3600720"/>
          </a:xfrm>
          <a:custGeom>
            <a:avLst/>
            <a:gdLst/>
            <a:ahLst/>
            <a:rect l="l" t="t" r="r" b="b"/>
            <a:pathLst>
              <a:path w="712" h="2268">
                <a:moveTo>
                  <a:pt x="227" y="0"/>
                </a:moveTo>
                <a:cubicBezTo>
                  <a:pt x="301" y="193"/>
                  <a:pt x="712" y="783"/>
                  <a:pt x="674" y="1161"/>
                </a:cubicBezTo>
                <a:cubicBezTo>
                  <a:pt x="636" y="1539"/>
                  <a:pt x="140" y="2038"/>
                  <a:pt x="0" y="2268"/>
                </a:cubicBezTo>
              </a:path>
            </a:pathLst>
          </a:custGeom>
          <a:noFill/>
          <a:ln w="38160">
            <a:solidFill>
              <a:srgbClr val="008000"/>
            </a:solidFill>
            <a:round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title"/>
          </p:nvPr>
        </p:nvSpPr>
        <p:spPr>
          <a:xfrm>
            <a:off x="0" y="406440"/>
            <a:ext cx="914400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) 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Кузнечик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выполнил следующий алгоритм 2 раз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"/>
          <p:cNvSpPr/>
          <p:nvPr/>
        </p:nvSpPr>
        <p:spPr>
          <a:xfrm>
            <a:off x="250920" y="765000"/>
            <a:ext cx="8686800" cy="1727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перёд 3 назад 2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СЛИ </a:t>
            </a: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чётно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ТО назад 2 закрась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ИНАЧЕ вперёд 3 вперёд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349200" y="2492280"/>
            <a:ext cx="8686800" cy="172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554400" indent="-5544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пределите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сколько точек на числовой прямой будет закрашен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в результате выполнения этого алгорит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54400" indent="-55440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) 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) 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)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50920" y="4581360"/>
            <a:ext cx="8686800" cy="17272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3000"/>
          </a:bodyPr>
          <a:p>
            <a:pPr marL="505800" indent="-50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Решени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+3-2=1 чётное? – нет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ИНАЧЕ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1+3+3=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+3-2-8 чётное? – да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ТО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8-2=6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закрас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05800" indent="-50580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твет: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0" y="6154560"/>
            <a:ext cx="914400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1440" y="139680"/>
            <a:ext cx="551160" cy="8128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0" y="406440"/>
            <a:ext cx="914400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) 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Кузнечик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выполнил следующий алгоритм 2 раз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6" dur="indefinite" restart="never" nodeType="tmRoot">
          <p:childTnLst>
            <p:seq>
              <p:cTn id="627" dur="indefinite" nodeType="mainSeq">
                <p:childTnLst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2" fill="hold">
                      <p:stCondLst>
                        <p:cond delay="indefinite"/>
                      </p:stCondLst>
                      <p:childTnLst>
                        <p:par>
                          <p:cTn id="633" fill="hold">
                            <p:stCondLst>
                              <p:cond delay="0"/>
                            </p:stCondLst>
                            <p:childTnLst>
                              <p:par>
                                <p:cTn id="634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"/>
          <p:cNvSpPr/>
          <p:nvPr/>
        </p:nvSpPr>
        <p:spPr>
          <a:xfrm>
            <a:off x="-15840" y="193680"/>
            <a:ext cx="550800" cy="81288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1"/>
          <p:cNvSpPr>
            <a:spLocks noGrp="1"/>
          </p:cNvSpPr>
          <p:nvPr>
            <p:ph/>
          </p:nvPr>
        </p:nvSpPr>
        <p:spPr>
          <a:xfrm>
            <a:off x="442800" y="893880"/>
            <a:ext cx="8229600" cy="52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перёд 3  :  назад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ЕСЛИ </a:t>
            </a:r>
            <a:r>
              <a:rPr b="1" lang="en-US" sz="2800" spc="-1" strike="noStrike">
                <a:solidFill>
                  <a:srgbClr val="cc0099"/>
                </a:solidFill>
                <a:latin typeface="Arial"/>
              </a:rPr>
              <a:t>отрицательное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ТО вперёд 2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НАЧЕ назад 1  :  закрас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ОНЕ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зад  1   :   назад 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пределите, сколько точек на числовой прямой будет закрашено в результате выполнения этого алгоритм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) 1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) 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) 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)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 type="title"/>
          </p:nvPr>
        </p:nvSpPr>
        <p:spPr>
          <a:xfrm>
            <a:off x="-44280" y="409680"/>
            <a:ext cx="914400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)  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Кузнечик</a:t>
            </a:r>
            <a:r>
              <a:rPr b="0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выполнил следующий алгоритм 2 раза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5651640" y="6308640"/>
            <a:ext cx="34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Ответ: 2 (а в сборнике 4(?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5651640" y="6154560"/>
            <a:ext cx="349236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6" dur="indefinite" restart="never" nodeType="tmRoot">
          <p:childTnLst>
            <p:seq>
              <p:cTn id="637" dur="indefinite" nodeType="mainSeq">
                <p:childTnLst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/>
          </p:nvPr>
        </p:nvSpPr>
        <p:spPr>
          <a:xfrm>
            <a:off x="45720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звестно, что алгоритм, который выполнил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Кузнечик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остоит из 6 записей. Первой была запис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втори 35   [Вперёд 2 Назад 1]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стальные записи — это команды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азад 6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 какую одну команду можно заменить этот алгоритм, чтобы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Кузнечик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казался в той же точке, что и после выполнения алгоритм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Назад 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3) Вперёд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перёд 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4) Назад 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7093080" y="613728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твет: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0" y="0"/>
            <a:ext cx="550800" cy="81288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4629240" y="1755720"/>
            <a:ext cx="1611360" cy="0"/>
          </a:xfrm>
          <a:prstGeom prst="line">
            <a:avLst/>
          </a:prstGeom>
          <a:ln w="76320">
            <a:solidFill>
              <a:srgbClr val="cc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250920" y="5664240"/>
            <a:ext cx="67737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ш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5 ∙ (+2 -1) + 5 ∙ (-6) = 35 – 30 = +5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Вперёд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0" y="5776920"/>
            <a:ext cx="9144000" cy="10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8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fill="hold">
                            <p:stCondLst>
                              <p:cond delay="500"/>
                            </p:stCondLst>
                            <p:childTnLst>
                              <p:par>
                                <p:cTn id="650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51" dur="2000" fill="hold"/>
                                        <p:tgtEl>
                                          <p:spTgt spid="61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xit" presetID="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55" dur="500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/>
          </p:nvPr>
        </p:nvSpPr>
        <p:spPr>
          <a:xfrm>
            <a:off x="611280" y="549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звестно, что начальное положение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Кузнечик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— точка 0 на координатной оси. Кузнечик выполнил алгорит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втори 3   [Вперёд 2 Назад 1 Повтори 2   [Назад 2]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втори 4   [Вперёд 3]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В какой точке на координатной оси окажется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Кузнечик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сле выполнения алгоритм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) 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) 12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) 3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) Назад 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7093080" y="613728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твет: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6732720" y="5776920"/>
            <a:ext cx="2411280" cy="10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0" y="0"/>
            <a:ext cx="550800" cy="81288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Черепашка (?) – только наз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8686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нитель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Черепашк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зёт по клеткам бесконечной вертикальной клетчатой доски, переходя по одной из команд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верх,   вниз,   вправо,  влев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— в соседнюю клетку в указанном направлении.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Черепашк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полнила следующую программ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право вправо влево вверх вверх вниз влево вверх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— в результате которой перешла из клетки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клетку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кажите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именьшее возможное число команд в программ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переводящей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Черепашку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 начальной клетки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конечную клетку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) 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)3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) 4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>
            <a:off x="7093080" y="613728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твет: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6732720" y="5950080"/>
            <a:ext cx="2411280" cy="90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>
            <a:off x="0" y="0"/>
            <a:ext cx="971640" cy="52056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9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Черепашка (?) – только наз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250560" y="907920"/>
            <a:ext cx="889308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нитель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Черепашк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зёт по клеткам бесконечной вертикальной клетчатой доски, переходя по одной из команд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верх,   вниз,   вправо,  влев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— в соседнюю клетку в указанном направлении.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Черепашк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полнила следующую программ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0000"/>
                </a:solidFill>
                <a:latin typeface="Arial"/>
              </a:rPr>
              <a:t>вправо вниз вправо вниз вправо вверх влево вверх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— в результате которой перешла из клетки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клетку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кажите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именьшее возможное число команд в программе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переводящей 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Черепашку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з начальной клетки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конечную клетку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) 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)3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4) 4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7093080" y="613728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твет: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6732720" y="5950080"/>
            <a:ext cx="2411280" cy="90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0" y="0"/>
            <a:ext cx="971640" cy="52056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Черепаш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06280" y="549360"/>
            <a:ext cx="86868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полнитель Черепашка перемещается на экране компьютера, оставляя след в виде лин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каждый конкретный момент известно положение исполнителя и направление его движ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КИ исполнителя (две команды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перёд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где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целое число), вызывающая передвижение Черепашки н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шагов в направлении движ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Направ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где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т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целое число), вызывающая изменение направления движения на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радусов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 часовой стрелк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пись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втори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[Команда 1 Команда 2 Команда 3]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означает, что последовательность команд в скобках повторится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"/>
          <p:cNvSpPr/>
          <p:nvPr/>
        </p:nvSpPr>
        <p:spPr>
          <a:xfrm>
            <a:off x="250920" y="3429000"/>
            <a:ext cx="8642160" cy="256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—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 выполнении каждой из которых он движется в соответствующем направлении </a:t>
            </a:r>
            <a:r>
              <a:rPr b="1" lang="ru-RU" sz="2200" spc="-1" strike="noStrike">
                <a:solidFill>
                  <a:srgbClr val="ff0000"/>
                </a:solidFill>
                <a:latin typeface="Arial"/>
              </a:rPr>
              <a:t>на 1 см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н выполнил следующую программу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право вверх вверх влево влево вниз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Укажите расстояние (в см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от начальной до конечной точ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) 6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)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)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1"/>
          <p:cNvSpPr>
            <a:spLocks noGrp="1"/>
          </p:cNvSpPr>
          <p:nvPr>
            <p:ph/>
          </p:nvPr>
        </p:nvSpPr>
        <p:spPr>
          <a:xfrm>
            <a:off x="236520" y="709560"/>
            <a:ext cx="6121440" cy="27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Исполнитель </a:t>
            </a: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Черепашка 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перемещается на экране компьютера, оставляя след в виде линии. В каждый конкретный момент известно положение исполнителя и направление его движения. У исполнителя существуют четыре команды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вер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ни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пра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влево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9" name=""/>
              <p:cNvSpPr txBox="1"/>
              <p:nvPr/>
            </p:nvSpPr>
            <p:spPr>
              <a:xfrm>
                <a:off x="6267600" y="5532480"/>
                <a:ext cx="5810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630" name=""/>
          <p:cNvSpPr/>
          <p:nvPr/>
        </p:nvSpPr>
        <p:spPr>
          <a:xfrm>
            <a:off x="7093080" y="633888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твет: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0" y="0"/>
            <a:ext cx="611280" cy="52056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457200" y="149400"/>
            <a:ext cx="8229600" cy="3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Черепашка (?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3" name="" descr=""/>
          <p:cNvPicPr/>
          <p:nvPr/>
        </p:nvPicPr>
        <p:blipFill>
          <a:blip r:embed="rId1"/>
          <a:stretch/>
        </p:blipFill>
        <p:spPr>
          <a:xfrm>
            <a:off x="6372360" y="790560"/>
            <a:ext cx="2590560" cy="263844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634" name=""/>
              <p:cNvSpPr txBox="1"/>
              <p:nvPr/>
            </p:nvSpPr>
            <p:spPr>
              <a:xfrm>
                <a:off x="2050920" y="6164280"/>
                <a:ext cx="2521080" cy="69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sSup>
                          <m:e>
                            <m:r>
                              <m:t xml:space="preserve">1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635" name=""/>
          <p:cNvSpPr/>
          <p:nvPr/>
        </p:nvSpPr>
        <p:spPr>
          <a:xfrm>
            <a:off x="7024680" y="2112840"/>
            <a:ext cx="638280" cy="6256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6791400" y="223056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7178760" y="2678040"/>
            <a:ext cx="36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360360" y="6308640"/>
            <a:ext cx="13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еш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0" name=""/>
              <p:cNvSpPr txBox="1"/>
              <p:nvPr/>
            </p:nvSpPr>
            <p:spPr>
              <a:xfrm>
                <a:off x="4414680" y="5502240"/>
                <a:ext cx="479520" cy="43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2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1" name=""/>
              <p:cNvSpPr txBox="1"/>
              <p:nvPr/>
            </p:nvSpPr>
            <p:spPr>
              <a:xfrm>
                <a:off x="2521080" y="5516640"/>
                <a:ext cx="47916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6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6" dur="indefinite" restart="never" nodeType="tmRoot">
          <p:childTnLst>
            <p:seq>
              <p:cTn id="677" dur="indefinite" nodeType="mainSeq">
                <p:childTnLst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fill="hold">
                      <p:stCondLst>
                        <p:cond delay="indefinite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9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500"/>
                            </p:stCondLst>
                            <p:childTnLst>
                              <p:par>
                                <p:cTn id="691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3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1500"/>
                            </p:stCondLst>
                            <p:childTnLst>
                              <p:par>
                                <p:cTn id="6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7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xit" presetID="2" presetSubtype="2" repeatCount="100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01" dur="500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2" dur="500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500"/>
                            </p:stCondLst>
                            <p:childTnLst>
                              <p:par>
                                <p:cTn id="705" nodeType="after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7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"/>
          <p:cNvSpPr/>
          <p:nvPr/>
        </p:nvSpPr>
        <p:spPr>
          <a:xfrm>
            <a:off x="250920" y="6308640"/>
            <a:ext cx="1081080" cy="54936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10920" y="-360"/>
            <a:ext cx="699444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Робот (?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236520" y="3428640"/>
            <a:ext cx="8656560" cy="246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331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ереходя на соседнюю клетку в направлении, указанном в скобках. Если в этом направлении между клетками стоит стена, то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Робот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азрушается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Робот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успешно выполнил программу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422423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Какую последовательность из трёх команд должен выполнить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Робот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чтобы вернуться в ту клетку, где он был перед началом выполнения программы, и не разрушиться вне зависимости от того, какие стены стоят на поле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12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1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) 113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) 13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) 31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) 1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7093080" y="6137280"/>
            <a:ext cx="20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0066"/>
                </a:solidFill>
                <a:latin typeface="Arial"/>
              </a:rPr>
              <a:t>Ответ: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6732720" y="5950080"/>
            <a:ext cx="2411280" cy="90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7" name="" descr=""/>
          <p:cNvPicPr/>
          <p:nvPr/>
        </p:nvPicPr>
        <p:blipFill>
          <a:blip r:embed="rId1"/>
          <a:stretch/>
        </p:blipFill>
        <p:spPr>
          <a:xfrm>
            <a:off x="6012000" y="907920"/>
            <a:ext cx="3038400" cy="2590920"/>
          </a:xfrm>
          <a:prstGeom prst="rect">
            <a:avLst/>
          </a:prstGeom>
          <a:ln w="0">
            <a:noFill/>
          </a:ln>
        </p:spPr>
      </p:pic>
      <p:sp>
        <p:nvSpPr>
          <p:cNvPr id="648" name=""/>
          <p:cNvSpPr/>
          <p:nvPr/>
        </p:nvSpPr>
        <p:spPr>
          <a:xfrm>
            <a:off x="250920" y="549360"/>
            <a:ext cx="57610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сполнитель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Робот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действует на клеточной доске, между соседними клетками которой могут стоять стены.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Робот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передвигается по клеткам доски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и может выполнять команд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66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ввер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66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вни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66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вправ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66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влево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 flipV="1">
            <a:off x="7691400" y="1988640"/>
            <a:ext cx="4680" cy="5842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 flipV="1">
            <a:off x="7696080" y="1541160"/>
            <a:ext cx="3240" cy="4446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7721640" y="1515240"/>
            <a:ext cx="444600" cy="324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8" dur="indefinite" restart="never" nodeType="tmRoot">
          <p:childTnLst>
            <p:seq>
              <p:cTn id="709" dur="indefinite" nodeType="mainSeq">
                <p:childTnLst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8" dur="5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500"/>
                            </p:stCondLst>
                            <p:childTnLst>
                              <p:par>
                                <p:cTn id="7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2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1000"/>
                            </p:stCondLst>
                            <p:childTnLst>
                              <p:par>
                                <p:cTn id="72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6" dur="5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3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33" dur="10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1000"/>
                            </p:stCondLst>
                            <p:childTnLst>
                              <p:par>
                                <p:cTn id="735" nodeType="afterEffect" fill="hold" presetClass="exit" presetID="1" repeatCount="100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Исполнитель КАРАНДА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90756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еремещается по плоскости, оставляя за собой след в виде лин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истема команд исполнителя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ВПЕРЁД К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где К — количество шагов; 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АПРАВО Р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где Р — поворот на Р градусов по часовой стрелке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Для повторения последовательности команд применяется команда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ОВТОРИ 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где А — количество повторени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С Черепашкой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по смыслу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очень похоже!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50418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Исполнитель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КАРАНДАШ</a:t>
            </a:r>
            <a:br>
              <a:rPr sz="40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и почему не Черепашка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5" name="" descr=""/>
          <p:cNvPicPr/>
          <p:nvPr/>
        </p:nvPicPr>
        <p:blipFill>
          <a:blip r:embed="rId1"/>
          <a:stretch/>
        </p:blipFill>
        <p:spPr>
          <a:xfrm>
            <a:off x="5183280" y="549360"/>
            <a:ext cx="3960720" cy="3585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250560" y="2143080"/>
            <a:ext cx="5761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РАНДАШ получил для исполнения следующий алгоритм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ОВТОРИ 3   (ПОВТОРИ 4 (ВПЕРЁД  10 НАПРАВО 90) НАПРАВО  12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ая фигура будет нарисована (см. рис.)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7093080" y="613728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твет: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6732720" y="5776920"/>
            <a:ext cx="2411280" cy="10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0" y="0"/>
            <a:ext cx="611280" cy="5493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50418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Исполнитель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КАРАНДАШ</a:t>
            </a:r>
            <a:br>
              <a:rPr sz="40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и вновь не Черепашка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1" name="" descr=""/>
          <p:cNvPicPr/>
          <p:nvPr/>
        </p:nvPicPr>
        <p:blipFill>
          <a:blip r:embed="rId1"/>
          <a:stretch/>
        </p:blipFill>
        <p:spPr>
          <a:xfrm>
            <a:off x="5183280" y="907920"/>
            <a:ext cx="3960720" cy="3586320"/>
          </a:xfrm>
          <a:prstGeom prst="rect">
            <a:avLst/>
          </a:prstGeom>
          <a:ln w="0">
            <a:noFill/>
          </a:ln>
        </p:spPr>
      </p:pic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-108000" y="2142720"/>
            <a:ext cx="6120000" cy="38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РАНДАШ получил для исполнения следующий алгоритм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ПОВТОРИ 3   (ПОВТОРИ 3 (ВПЕРЁД  10 НАПРАВО 120) НАПРАВО  12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Какая фигура будет нарисована (см. рис.)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>
            <a:off x="7093080" y="613728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твет: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6732720" y="5776920"/>
            <a:ext cx="2411280" cy="10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0" y="0"/>
            <a:ext cx="611280" cy="54936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3" dur="indefinite" restart="never" nodeType="tmRoot">
          <p:childTnLst>
            <p:seq>
              <p:cTn id="744" dur="indefinite" nodeType="mainSeq">
                <p:childTnLst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/>
          </p:nvPr>
        </p:nvSpPr>
        <p:spPr>
          <a:xfrm>
            <a:off x="207720" y="735120"/>
            <a:ext cx="889308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мещается по числовой оси по командам ВПЕРЁД Р (ВР) и НАЗАД Р (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P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), где Р — количество делений ос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нитель выполнил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команду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З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чём команд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было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 5 больш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ой одной командой можно было бы заменить программу, чтобы исполнитель оказался в той же точке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2008080" y="3976560"/>
            <a:ext cx="360360" cy="935280"/>
          </a:xfrm>
          <a:custGeom>
            <a:avLst/>
            <a:gdLst>
              <a:gd name="textAreaLeft" fmla="*/ 0 w 360360"/>
              <a:gd name="textAreaRight" fmla="*/ 129960 w 360360"/>
              <a:gd name="textAreaTop" fmla="*/ 24120 h 935280"/>
              <a:gd name="textAreaBottom" fmla="*/ 911160 h 93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208080" y="3429000"/>
            <a:ext cx="252072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ш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H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Y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В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H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Y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ВЗ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208080" y="5245200"/>
            <a:ext cx="3284280" cy="14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.о.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ВЗ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 Вперед 3*8=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H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Назад 2*13=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3492360" y="5589720"/>
            <a:ext cx="360360" cy="1079280"/>
          </a:xfrm>
          <a:custGeom>
            <a:avLst/>
            <a:gdLst>
              <a:gd name="textAreaLeft" fmla="*/ 0 w 360360"/>
              <a:gd name="textAreaRight" fmla="*/ 129960 w 360360"/>
              <a:gd name="textAreaTop" fmla="*/ 28080 h 1079280"/>
              <a:gd name="textAreaBottom" fmla="*/ 1051200 h 107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7062840" y="6350040"/>
            <a:ext cx="20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твет: Н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6732720" y="5776920"/>
            <a:ext cx="2411280" cy="10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2525760" y="4105440"/>
            <a:ext cx="657540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Y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ВЗ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5 = 21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Y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ВЗ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6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ВЗ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8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H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8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5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3851280" y="5950080"/>
            <a:ext cx="50418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6-24=2, т.е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ЗАД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>
            <a:off x="0" y="0"/>
            <a:ext cx="611280" cy="611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 type="title"/>
          </p:nvPr>
        </p:nvSpPr>
        <p:spPr>
          <a:xfrm>
            <a:off x="456840" y="188640"/>
            <a:ext cx="6994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Исполнитель ПОПРЫГУНЧ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9" dur="indefinite" restart="never" nodeType="tmRoot">
          <p:childTnLst>
            <p:seq>
              <p:cTn id="750" dur="indefinite" nodeType="mainSeq">
                <p:childTnLst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5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0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fill="hold">
                            <p:stCondLst>
                              <p:cond delay="500"/>
                            </p:stCondLst>
                            <p:childTnLst>
                              <p:par>
                                <p:cTn id="76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4" dur="80"/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5" dur="80"/>
                                        <p:tgtEl>
                                          <p:spTgt spid="6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6" dur="80"/>
                                        <p:tgtEl>
                                          <p:spTgt spid="6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1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6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7" fill="hold">
                            <p:stCondLst>
                              <p:cond delay="500"/>
                            </p:stCondLst>
                            <p:childTnLst>
                              <p:par>
                                <p:cTn id="7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0" dur="5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6840" y="188640"/>
            <a:ext cx="6994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Исполнитель ПОПРЫГУНЧИ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207720" y="735120"/>
            <a:ext cx="889308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нитель ПОПРЫГУНЧИК перемещается по числовой оси по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омандам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ПЕРЁД Р(ВР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ЗАД Р(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P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где Р — количество делений ос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сполнитель выполнил 15 команд Н2 и ВЗ, причём команд Н2 было на 5 больше. Какой одной командой можно было бы заменить программу, чтобы исполнитель оказался в той же точке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2008080" y="3976560"/>
            <a:ext cx="360360" cy="935280"/>
          </a:xfrm>
          <a:custGeom>
            <a:avLst/>
            <a:gdLst>
              <a:gd name="textAreaLeft" fmla="*/ 0 w 360360"/>
              <a:gd name="textAreaRight" fmla="*/ 129960 w 360360"/>
              <a:gd name="textAreaTop" fmla="*/ 24120 h 935280"/>
              <a:gd name="textAreaBottom" fmla="*/ 911160 h 93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208080" y="3429000"/>
            <a:ext cx="252072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ш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H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Y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ВЗ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H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Y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ВЗ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208080" y="5245200"/>
            <a:ext cx="3284280" cy="14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.о.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ВЗ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 Вперед 3*5=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10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H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 Назад 2*10=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3492360" y="5589720"/>
            <a:ext cx="360360" cy="1079280"/>
          </a:xfrm>
          <a:custGeom>
            <a:avLst/>
            <a:gdLst>
              <a:gd name="textAreaLeft" fmla="*/ 0 w 360360"/>
              <a:gd name="textAreaRight" fmla="*/ 129960 w 360360"/>
              <a:gd name="textAreaTop" fmla="*/ 28080 h 1079280"/>
              <a:gd name="textAreaBottom" fmla="*/ 1051200 h 107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7093080" y="6308640"/>
            <a:ext cx="20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твет: Н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6732720" y="5776920"/>
            <a:ext cx="2411280" cy="10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2525760" y="4105440"/>
            <a:ext cx="6575400" cy="131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00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Y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ВЗ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5 =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5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Y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ВЗ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= 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1" lang="ru-RU" sz="2400" spc="-1" strike="noStrike" baseline="-25000">
                <a:solidFill>
                  <a:srgbClr val="000000"/>
                </a:solidFill>
                <a:latin typeface="Arial"/>
              </a:rPr>
              <a:t>ВЗ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en-US" sz="2400" spc="-1" strike="noStrike" baseline="-25000">
                <a:solidFill>
                  <a:srgbClr val="000000"/>
                </a:solidFill>
                <a:latin typeface="Arial"/>
              </a:rPr>
              <a:t>H2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5=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3909960" y="5877000"/>
            <a:ext cx="504180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0-15=5, т.е.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ЗАД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0" y="0"/>
            <a:ext cx="611280" cy="61128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1" dur="500"/>
                                        <p:tgtEl>
                                          <p:spTgt spid="6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6" dur="500"/>
                                        <p:tgtEl>
                                          <p:spTgt spid="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7" fill="hold">
                            <p:stCondLst>
                              <p:cond delay="500"/>
                            </p:stCondLst>
                            <p:childTnLst>
                              <p:par>
                                <p:cTn id="79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0" dur="80"/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1" dur="80"/>
                                        <p:tgtEl>
                                          <p:spTgt spid="6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2" dur="80"/>
                                        <p:tgtEl>
                                          <p:spTgt spid="6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7" dur="5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8" fill="hold">
                      <p:stCondLst>
                        <p:cond delay="indefinite"/>
                      </p:stCondLst>
                      <p:childTnLst>
                        <p:par>
                          <p:cTn id="809" fill="hold">
                            <p:stCondLst>
                              <p:cond delay="0"/>
                            </p:stCondLst>
                            <p:childTnLst>
                              <p:par>
                                <p:cTn id="8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2" dur="500"/>
                                        <p:tgtEl>
                                          <p:spTgt spid="6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3" fill="hold">
                            <p:stCondLst>
                              <p:cond delay="500"/>
                            </p:stCondLst>
                            <p:childTnLst>
                              <p:par>
                                <p:cTn id="8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6" dur="500"/>
                                        <p:tgtEl>
                                          <p:spTgt spid="6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7200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Исполнитель ПЛИТОЧН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250920" y="684360"/>
            <a:ext cx="8686800" cy="59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жет перемещаться по клетчатой плоскости по команда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ВЕРХ, ВНИЗ, ВЛЕВО, ВПРАВО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жду соседними клетками может находиться бордюр, пересечь который ПЛИТОЧНИК не может. Поэтому при движении необходимо проверять отсутствие бордюра или края плоскости командам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ВЕРХУ СВОБОДНО, СНИЗУ СВОБОДНО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ЛЕВА СВОБОДНО, СПРАВА СВОБОДН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Эти команды можно использовать вместе с условием ЕСЛИ, которое имеет следующий вид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СЛИ &lt;условие&gt; ТО &lt;последовательность команд&gt; КОНЕЦ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одном условии можно использовать несколько команд, применяя логические связки И, ИЛИ, Н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ля повторения последовательности команд можно использовать цикл ПОКА, который имеет вид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КА &lt;условие&gt; ДЕЛАТЬ &lt;последовательность команд&gt; КОНЕЦ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Также у ПЛИТОЧНИКА есть две команды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Л0ЖИТЬ_К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УЛ0ЖИТЬ_С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— которые укладывают красные и синие плитки соответствен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"/>
          <p:cNvSpPr/>
          <p:nvPr/>
        </p:nvSpPr>
        <p:spPr>
          <a:xfrm>
            <a:off x="250920" y="907920"/>
            <a:ext cx="2881080" cy="4681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1"/>
          <p:cNvSpPr>
            <a:spLocks noGrp="1"/>
          </p:cNvSpPr>
          <p:nvPr>
            <p:ph/>
          </p:nvPr>
        </p:nvSpPr>
        <p:spPr>
          <a:xfrm>
            <a:off x="250560" y="907920"/>
            <a:ext cx="2881080" cy="5042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Справа от бордюра, отступив вниз 3 клетки, нужно уложить 4 ряда красных и синих плиток в шахматном порядке. ПЛИТОЧНИК находится в клеточке слева от бордюра, длина бордюра более 5 клеток, и до конца плоскости он не доходит. Алгоритм записать в текстовом редактор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2" name=""/>
          <p:cNvGraphicFramePr/>
          <p:nvPr/>
        </p:nvGraphicFramePr>
        <p:xfrm>
          <a:off x="6372360" y="907920"/>
          <a:ext cx="2444760" cy="4572000"/>
        </p:xfrm>
        <a:graphic>
          <a:graphicData uri="http://schemas.openxmlformats.org/drawingml/2006/table">
            <a:tbl>
              <a:tblPr/>
              <a:tblGrid>
                <a:gridCol w="350640"/>
                <a:gridCol w="347760"/>
                <a:gridCol w="349200"/>
                <a:gridCol w="349200"/>
                <a:gridCol w="349200"/>
                <a:gridCol w="347760"/>
                <a:gridCol w="351000"/>
              </a:tblGrid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4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3" name=""/>
          <p:cNvSpPr/>
          <p:nvPr/>
        </p:nvSpPr>
        <p:spPr>
          <a:xfrm>
            <a:off x="250920" y="5950080"/>
            <a:ext cx="3600360" cy="6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РИСУНКА НЕТ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Творим сами </a:t>
            </a:r>
            <a:r>
              <a:rPr b="1" lang="en-US" sz="2800" spc="-1" strike="noStrike">
                <a:solidFill>
                  <a:srgbClr val="ff0000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4" name=""/>
          <p:cNvGraphicFramePr/>
          <p:nvPr/>
        </p:nvGraphicFramePr>
        <p:xfrm>
          <a:off x="3492360" y="907920"/>
          <a:ext cx="2444760" cy="4525920"/>
        </p:xfrm>
        <a:graphic>
          <a:graphicData uri="http://schemas.openxmlformats.org/drawingml/2006/table">
            <a:tbl>
              <a:tblPr/>
              <a:tblGrid>
                <a:gridCol w="351000"/>
                <a:gridCol w="347760"/>
                <a:gridCol w="349200"/>
                <a:gridCol w="349200"/>
                <a:gridCol w="349200"/>
                <a:gridCol w="347760"/>
                <a:gridCol w="350640"/>
              </a:tblGrid>
              <a:tr h="30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5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0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5" name=""/>
          <p:cNvSpPr/>
          <p:nvPr/>
        </p:nvSpPr>
        <p:spPr>
          <a:xfrm>
            <a:off x="2771640" y="5589720"/>
            <a:ext cx="2880000" cy="1079280"/>
          </a:xfrm>
          <a:prstGeom prst="wedgeEllipseCallout">
            <a:avLst>
              <a:gd name="adj1" fmla="val 6064"/>
              <a:gd name="adj2" fmla="val -105884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имер возможной обстанов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"/>
          <p:cNvSpPr/>
          <p:nvPr/>
        </p:nvSpPr>
        <p:spPr>
          <a:xfrm>
            <a:off x="6264360" y="5589720"/>
            <a:ext cx="2879640" cy="1079280"/>
          </a:xfrm>
          <a:prstGeom prst="wedgeEllipseCallout">
            <a:avLst>
              <a:gd name="adj1" fmla="val -17583"/>
              <a:gd name="adj2" fmla="val -139412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Это должно получить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"/>
          <p:cNvSpPr/>
          <p:nvPr/>
        </p:nvSpPr>
        <p:spPr>
          <a:xfrm rot="19566000">
            <a:off x="2050920" y="5229360"/>
            <a:ext cx="1800360" cy="720720"/>
          </a:xfrm>
          <a:custGeom>
            <a:avLst/>
            <a:gdLst>
              <a:gd name="textAreaLeft" fmla="*/ 225000 w 1800360"/>
              <a:gd name="textAreaRight" fmla="*/ 1575360 w 1800360"/>
              <a:gd name="textAreaTop" fmla="*/ 180000 h 720720"/>
              <a:gd name="textAreaBottom" fmla="*/ 540720 h 7207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"/>
          <p:cNvSpPr/>
          <p:nvPr/>
        </p:nvSpPr>
        <p:spPr>
          <a:xfrm>
            <a:off x="0" y="0"/>
            <a:ext cx="61128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 type="title"/>
          </p:nvPr>
        </p:nvSpPr>
        <p:spPr>
          <a:xfrm>
            <a:off x="360000" y="189000"/>
            <a:ext cx="7451640" cy="3585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Выполните задание 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ПЛИТОЧН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1" dur="indefinite" restart="never" nodeType="tmRoot">
          <p:childTnLst>
            <p:seq>
              <p:cTn id="822" dur="indefinite" nodeType="mainSeq">
                <p:childTnLst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7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8" dur="500" fill="hold"/>
                                        <p:tgtEl>
                                          <p:spTgt spid="6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fill="hold">
                            <p:stCondLst>
                              <p:cond delay="500"/>
                            </p:stCondLst>
                            <p:childTnLst>
                              <p:par>
                                <p:cTn id="83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2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3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4" fill="hold">
                            <p:stCondLst>
                              <p:cond delay="1000"/>
                            </p:stCondLst>
                            <p:childTnLst>
                              <p:par>
                                <p:cTn id="8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7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8" fill="hold">
                            <p:stCondLst>
                              <p:cond delay="1500"/>
                            </p:stCondLst>
                            <p:childTnLst>
                              <p:par>
                                <p:cTn id="8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1" dur="500"/>
                                        <p:tgtEl>
                                          <p:spTgt spid="6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fill="hold">
                            <p:stCondLst>
                              <p:cond delay="2000"/>
                            </p:stCondLst>
                            <p:childTnLst>
                              <p:par>
                                <p:cTn id="8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5" dur="500"/>
                                        <p:tgtEl>
                                          <p:spTgt spid="6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6" fill="hold">
                            <p:stCondLst>
                              <p:cond delay="2500"/>
                            </p:stCondLst>
                            <p:childTnLst>
                              <p:par>
                                <p:cTn id="8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9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0" y="189000"/>
            <a:ext cx="812160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Возможный алгоритм 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ПЛИТОЧНИК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3792600" y="1082520"/>
            <a:ext cx="5292720" cy="560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ОКА 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НЕ СПРАВА СВ0Б0ДН0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ДЕЛА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ВЕР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КОНЕЦ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ПРАВО   :   ВНИЗ   :   ВНИЗ   :   ВНИЗ   :   ВНИЗ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ПОКА  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НЕ СЛЕВА СВОБОДНО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ДЕЛА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УЛ0ЖИТЬ_С  :   ВПРАВО  :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УЛОЖИТЬ К   :   ВПРАВО  :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УЛ0ЖИТЬ_С   :   ВПРАВО  :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УЛОЖИТЬ_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НИЗ   :   ВЛЕВО   :   ВЛЕВО   :   ВЛЕВО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ЕСЛИ  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НЕ СЛЕВА СВОБОДНО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Т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УЛ0ЖИТЬ_К   :   ВПРАВО   :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УЛОЖИТЬ_С  :   ВПРАВО  :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УЛ0ЖИТЬ_К  :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ВПРАВО   :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УЛОЖИТЬ_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КОНЕ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ВНИЗ   :   ВЛЕВО   :   ВЛЕВО   :  ВЛЕВО КОНЕЦ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2" name=""/>
          <p:cNvGraphicFramePr/>
          <p:nvPr/>
        </p:nvGraphicFramePr>
        <p:xfrm>
          <a:off x="611280" y="1628640"/>
          <a:ext cx="2392200" cy="4357800"/>
        </p:xfrm>
        <a:graphic>
          <a:graphicData uri="http://schemas.openxmlformats.org/drawingml/2006/table">
            <a:tbl>
              <a:tblPr/>
              <a:tblGrid>
                <a:gridCol w="343440"/>
                <a:gridCol w="339120"/>
                <a:gridCol w="342360"/>
                <a:gridCol w="342360"/>
                <a:gridCol w="342000"/>
                <a:gridCol w="339120"/>
                <a:gridCol w="343800"/>
              </a:tblGrid>
              <a:tr h="29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381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381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03" name=""/>
          <p:cNvSpPr/>
          <p:nvPr/>
        </p:nvSpPr>
        <p:spPr>
          <a:xfrm>
            <a:off x="3851280" y="3429000"/>
            <a:ext cx="5040360" cy="3240000"/>
          </a:xfrm>
          <a:prstGeom prst="cloudCallout">
            <a:avLst>
              <a:gd name="adj1" fmla="val -30722"/>
              <a:gd name="adj2" fmla="val -76606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сборнике пишут НЕКОРРЕКТНО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слева НЕ свободно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0" dur="indefinite" restart="never" nodeType="tmRoot">
          <p:childTnLst>
            <p:seq>
              <p:cTn id="851" dur="indefinite" nodeType="mainSeq">
                <p:childTnLst>
                  <p:par>
                    <p:cTn id="852" fill="hold">
                      <p:stCondLst>
                        <p:cond delay="0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6" dur="500"/>
                                        <p:tgtEl>
                                          <p:spTgt spid="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7" fill="hold">
                            <p:stCondLst>
                              <p:cond delay="500"/>
                            </p:stCondLst>
                            <p:childTnLst>
                              <p:par>
                                <p:cTn id="858" nodeType="afterEffect" fill="hold" presetClass="entr" presetID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2324160" y="490680"/>
            <a:ext cx="525240" cy="525240"/>
          </a:xfrm>
          <a:prstGeom prst="ellipse">
            <a:avLst/>
          </a:prstGeom>
          <a:solidFill>
            <a:srgbClr val="ffff66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50920" y="4508640"/>
            <a:ext cx="5337000" cy="687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49200" y="2394000"/>
            <a:ext cx="8282160" cy="215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00000"/>
                </a:solidFill>
                <a:latin typeface="Arial"/>
              </a:rPr>
              <a:t>Решение.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Выпуклый многоугольник называется правильным, если у него все стороны равны и все углы равны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Черепашка шесть раз повторяет группу команд, указанную в скобках. При этом она каждый раз поворачивает в одном направлении — направо, на один и тот же угол и прочерчивает отрезки одинаковой длины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48920" y="9360"/>
            <a:ext cx="72486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Черепашке дан для исполнения алгорит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6616440" y="4151880"/>
            <a:ext cx="2505240" cy="2514960"/>
            <a:chOff x="6616440" y="4151880"/>
            <a:chExt cx="2505240" cy="2514960"/>
          </a:xfrm>
        </p:grpSpPr>
        <p:grpSp>
          <p:nvGrpSpPr>
            <p:cNvPr id="102" name=""/>
            <p:cNvGrpSpPr/>
            <p:nvPr/>
          </p:nvGrpSpPr>
          <p:grpSpPr>
            <a:xfrm>
              <a:off x="6678000" y="4151880"/>
              <a:ext cx="2192400" cy="2514960"/>
              <a:chOff x="6678000" y="4151880"/>
              <a:chExt cx="2192400" cy="2514960"/>
            </a:xfrm>
          </p:grpSpPr>
          <p:grpSp>
            <p:nvGrpSpPr>
              <p:cNvPr id="103" name=""/>
              <p:cNvGrpSpPr/>
              <p:nvPr/>
            </p:nvGrpSpPr>
            <p:grpSpPr>
              <a:xfrm>
                <a:off x="7415280" y="4151880"/>
                <a:ext cx="1422360" cy="816840"/>
                <a:chOff x="7415280" y="4151880"/>
                <a:chExt cx="1422360" cy="816840"/>
              </a:xfrm>
            </p:grpSpPr>
            <p:sp>
              <p:nvSpPr>
                <p:cNvPr id="104" name=""/>
                <p:cNvSpPr/>
                <p:nvPr/>
              </p:nvSpPr>
              <p:spPr>
                <a:xfrm>
                  <a:off x="8145360" y="4608360"/>
                  <a:ext cx="0" cy="3603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7415280" y="4781520"/>
                  <a:ext cx="14223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7575480" y="4476600"/>
                  <a:ext cx="198360" cy="312840"/>
                </a:xfrm>
                <a:custGeom>
                  <a:avLst/>
                  <a:gdLst/>
                  <a:ahLst/>
                  <a:rect l="l" t="t" r="r" b="b"/>
                  <a:pathLst>
                    <a:path w="125" h="197">
                      <a:moveTo>
                        <a:pt x="0" y="0"/>
                      </a:moveTo>
                      <a:cubicBezTo>
                        <a:pt x="12" y="9"/>
                        <a:pt x="55" y="38"/>
                        <a:pt x="72" y="57"/>
                      </a:cubicBezTo>
                      <a:cubicBezTo>
                        <a:pt x="89" y="76"/>
                        <a:pt x="96" y="91"/>
                        <a:pt x="105" y="114"/>
                      </a:cubicBezTo>
                      <a:cubicBezTo>
                        <a:pt x="114" y="137"/>
                        <a:pt x="121" y="180"/>
                        <a:pt x="125" y="197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 flipV="1">
                  <a:off x="7418160" y="4151880"/>
                  <a:ext cx="359640" cy="6228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8" name=""/>
              <p:cNvGrpSpPr/>
              <p:nvPr/>
            </p:nvGrpSpPr>
            <p:grpSpPr>
              <a:xfrm>
                <a:off x="8143560" y="4763160"/>
                <a:ext cx="726480" cy="1245600"/>
                <a:chOff x="8143560" y="4763160"/>
                <a:chExt cx="726480" cy="1245600"/>
              </a:xfrm>
            </p:grpSpPr>
            <p:sp>
              <p:nvSpPr>
                <p:cNvPr id="109" name=""/>
                <p:cNvSpPr/>
                <p:nvPr/>
              </p:nvSpPr>
              <p:spPr>
                <a:xfrm flipH="1">
                  <a:off x="8346240" y="5322600"/>
                  <a:ext cx="312120" cy="180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8143560" y="4776840"/>
                  <a:ext cx="711000" cy="12319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 rot="3600000">
                  <a:off x="8302320" y="4770720"/>
                  <a:ext cx="198360" cy="312840"/>
                </a:xfrm>
                <a:custGeom>
                  <a:avLst/>
                  <a:gdLst/>
                  <a:ahLst/>
                  <a:rect l="l" t="t" r="r" b="b"/>
                  <a:pathLst>
                    <a:path w="125" h="197">
                      <a:moveTo>
                        <a:pt x="0" y="0"/>
                      </a:moveTo>
                      <a:cubicBezTo>
                        <a:pt x="12" y="9"/>
                        <a:pt x="55" y="38"/>
                        <a:pt x="72" y="57"/>
                      </a:cubicBezTo>
                      <a:cubicBezTo>
                        <a:pt x="89" y="76"/>
                        <a:pt x="96" y="91"/>
                        <a:pt x="105" y="114"/>
                      </a:cubicBezTo>
                      <a:cubicBezTo>
                        <a:pt x="114" y="137"/>
                        <a:pt x="121" y="180"/>
                        <a:pt x="125" y="197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8150760" y="4775760"/>
                  <a:ext cx="719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" name=""/>
              <p:cNvGrpSpPr/>
              <p:nvPr/>
            </p:nvGrpSpPr>
            <p:grpSpPr>
              <a:xfrm>
                <a:off x="7795080" y="5407920"/>
                <a:ext cx="1075320" cy="1231560"/>
                <a:chOff x="7795080" y="5407920"/>
                <a:chExt cx="1075320" cy="1231560"/>
              </a:xfrm>
            </p:grpSpPr>
            <p:sp>
              <p:nvSpPr>
                <p:cNvPr id="114" name=""/>
                <p:cNvSpPr/>
                <p:nvPr/>
              </p:nvSpPr>
              <p:spPr>
                <a:xfrm flipH="1" flipV="1">
                  <a:off x="7979400" y="5946480"/>
                  <a:ext cx="311760" cy="180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 flipH="1">
                  <a:off x="7795080" y="5407920"/>
                  <a:ext cx="711360" cy="1231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 rot="7200000">
                  <a:off x="8406000" y="5549760"/>
                  <a:ext cx="198360" cy="312840"/>
                </a:xfrm>
                <a:custGeom>
                  <a:avLst/>
                  <a:gdLst/>
                  <a:ahLst/>
                  <a:rect l="l" t="t" r="r" b="b"/>
                  <a:pathLst>
                    <a:path w="125" h="197">
                      <a:moveTo>
                        <a:pt x="0" y="0"/>
                      </a:moveTo>
                      <a:cubicBezTo>
                        <a:pt x="12" y="9"/>
                        <a:pt x="55" y="38"/>
                        <a:pt x="72" y="57"/>
                      </a:cubicBezTo>
                      <a:cubicBezTo>
                        <a:pt x="89" y="76"/>
                        <a:pt x="96" y="91"/>
                        <a:pt x="105" y="114"/>
                      </a:cubicBezTo>
                      <a:cubicBezTo>
                        <a:pt x="114" y="137"/>
                        <a:pt x="121" y="180"/>
                        <a:pt x="125" y="197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8510760" y="5413680"/>
                  <a:ext cx="359640" cy="6228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8" name=""/>
              <p:cNvGrpSpPr/>
              <p:nvPr/>
            </p:nvGrpSpPr>
            <p:grpSpPr>
              <a:xfrm>
                <a:off x="6716160" y="5850000"/>
                <a:ext cx="1422360" cy="816840"/>
                <a:chOff x="6716160" y="5850000"/>
                <a:chExt cx="1422360" cy="816840"/>
              </a:xfrm>
            </p:grpSpPr>
            <p:sp>
              <p:nvSpPr>
                <p:cNvPr id="119" name=""/>
                <p:cNvSpPr/>
                <p:nvPr/>
              </p:nvSpPr>
              <p:spPr>
                <a:xfrm flipV="1">
                  <a:off x="7408440" y="5850000"/>
                  <a:ext cx="0" cy="3603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 flipH="1">
                  <a:off x="6716160" y="6037200"/>
                  <a:ext cx="142236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 flipH="1" flipV="1">
                  <a:off x="7779600" y="6028920"/>
                  <a:ext cx="198360" cy="312840"/>
                </a:xfrm>
                <a:custGeom>
                  <a:avLst/>
                  <a:gdLst/>
                  <a:ahLst/>
                  <a:rect l="l" t="t" r="r" b="b"/>
                  <a:pathLst>
                    <a:path w="125" h="197">
                      <a:moveTo>
                        <a:pt x="0" y="0"/>
                      </a:moveTo>
                      <a:cubicBezTo>
                        <a:pt x="12" y="9"/>
                        <a:pt x="55" y="38"/>
                        <a:pt x="72" y="57"/>
                      </a:cubicBezTo>
                      <a:cubicBezTo>
                        <a:pt x="89" y="76"/>
                        <a:pt x="96" y="91"/>
                        <a:pt x="105" y="114"/>
                      </a:cubicBezTo>
                      <a:cubicBezTo>
                        <a:pt x="114" y="137"/>
                        <a:pt x="121" y="180"/>
                        <a:pt x="125" y="197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 flipH="1">
                  <a:off x="7776360" y="6044040"/>
                  <a:ext cx="359640" cy="6228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3" name=""/>
              <p:cNvGrpSpPr/>
              <p:nvPr/>
            </p:nvGrpSpPr>
            <p:grpSpPr>
              <a:xfrm>
                <a:off x="6678000" y="4806000"/>
                <a:ext cx="726480" cy="1245600"/>
                <a:chOff x="6678000" y="4806000"/>
                <a:chExt cx="726480" cy="1245600"/>
              </a:xfrm>
            </p:grpSpPr>
            <p:sp>
              <p:nvSpPr>
                <p:cNvPr id="124" name=""/>
                <p:cNvSpPr/>
                <p:nvPr/>
              </p:nvSpPr>
              <p:spPr>
                <a:xfrm flipV="1">
                  <a:off x="6889680" y="5311800"/>
                  <a:ext cx="311760" cy="18036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 flipH="1" flipV="1">
                  <a:off x="6693480" y="4806000"/>
                  <a:ext cx="711000" cy="1231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 flipH="1" flipV="1" rot="3600000">
                  <a:off x="7046280" y="5730120"/>
                  <a:ext cx="198360" cy="313200"/>
                </a:xfrm>
                <a:custGeom>
                  <a:avLst/>
                  <a:gdLst/>
                  <a:ahLst/>
                  <a:rect l="l" t="t" r="r" b="b"/>
                  <a:pathLst>
                    <a:path w="125" h="197">
                      <a:moveTo>
                        <a:pt x="0" y="0"/>
                      </a:moveTo>
                      <a:cubicBezTo>
                        <a:pt x="12" y="9"/>
                        <a:pt x="55" y="38"/>
                        <a:pt x="72" y="57"/>
                      </a:cubicBezTo>
                      <a:cubicBezTo>
                        <a:pt x="89" y="76"/>
                        <a:pt x="96" y="91"/>
                        <a:pt x="105" y="114"/>
                      </a:cubicBezTo>
                      <a:cubicBezTo>
                        <a:pt x="114" y="137"/>
                        <a:pt x="121" y="180"/>
                        <a:pt x="125" y="197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 flipH="1">
                  <a:off x="6678000" y="6038640"/>
                  <a:ext cx="719280" cy="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8" name=""/>
              <p:cNvGrpSpPr/>
              <p:nvPr/>
            </p:nvGrpSpPr>
            <p:grpSpPr>
              <a:xfrm>
                <a:off x="6689880" y="4175280"/>
                <a:ext cx="1075320" cy="1231560"/>
                <a:chOff x="6689880" y="4175280"/>
                <a:chExt cx="1075320" cy="1231560"/>
              </a:xfrm>
            </p:grpSpPr>
            <p:sp>
              <p:nvSpPr>
                <p:cNvPr id="129" name=""/>
                <p:cNvSpPr/>
                <p:nvPr/>
              </p:nvSpPr>
              <p:spPr>
                <a:xfrm>
                  <a:off x="7269120" y="4688280"/>
                  <a:ext cx="311760" cy="180000"/>
                </a:xfrm>
                <a:prstGeom prst="line">
                  <a:avLst/>
                </a:prstGeom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 flipV="1">
                  <a:off x="7053840" y="4175280"/>
                  <a:ext cx="711360" cy="123156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 flipH="1" flipV="1" rot="7200000">
                  <a:off x="6955560" y="4951440"/>
                  <a:ext cx="198360" cy="312840"/>
                </a:xfrm>
                <a:custGeom>
                  <a:avLst/>
                  <a:gdLst/>
                  <a:ahLst/>
                  <a:rect l="l" t="t" r="r" b="b"/>
                  <a:pathLst>
                    <a:path w="125" h="197">
                      <a:moveTo>
                        <a:pt x="0" y="0"/>
                      </a:moveTo>
                      <a:cubicBezTo>
                        <a:pt x="12" y="9"/>
                        <a:pt x="55" y="38"/>
                        <a:pt x="72" y="57"/>
                      </a:cubicBezTo>
                      <a:cubicBezTo>
                        <a:pt x="89" y="76"/>
                        <a:pt x="96" y="91"/>
                        <a:pt x="105" y="114"/>
                      </a:cubicBezTo>
                      <a:cubicBezTo>
                        <a:pt x="114" y="137"/>
                        <a:pt x="121" y="180"/>
                        <a:pt x="125" y="197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 flipH="1" flipV="1">
                  <a:off x="6689880" y="4778280"/>
                  <a:ext cx="359640" cy="6228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3" name=""/>
            <p:cNvSpPr/>
            <p:nvPr/>
          </p:nvSpPr>
          <p:spPr>
            <a:xfrm>
              <a:off x="7672320" y="4275000"/>
              <a:ext cx="719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00"/>
                  </a:solidFill>
                  <a:latin typeface="Arial"/>
                </a:rPr>
                <a:t>60</a:t>
              </a:r>
              <a:r>
                <a:rPr b="0" lang="en-US" sz="2000" spc="-1" strike="noStrike" baseline="30000">
                  <a:solidFill>
                    <a:srgbClr val="0033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402400" y="4849560"/>
              <a:ext cx="719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00"/>
                  </a:solidFill>
                  <a:latin typeface="Arial"/>
                </a:rPr>
                <a:t>60</a:t>
              </a:r>
              <a:r>
                <a:rPr b="0" lang="en-US" sz="2000" spc="-1" strike="noStrike" baseline="30000">
                  <a:solidFill>
                    <a:srgbClr val="0033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216640" y="5746680"/>
              <a:ext cx="719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00"/>
                  </a:solidFill>
                  <a:latin typeface="Arial"/>
                </a:rPr>
                <a:t>60</a:t>
              </a:r>
              <a:r>
                <a:rPr b="0" lang="en-US" sz="2000" spc="-1" strike="noStrike" baseline="30000">
                  <a:solidFill>
                    <a:srgbClr val="0033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251480" y="6119640"/>
              <a:ext cx="719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00"/>
                  </a:solidFill>
                  <a:latin typeface="Arial"/>
                </a:rPr>
                <a:t>60</a:t>
              </a:r>
              <a:r>
                <a:rPr b="0" lang="en-US" sz="2000" spc="-1" strike="noStrike" baseline="30000">
                  <a:solidFill>
                    <a:srgbClr val="0033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616440" y="5511600"/>
              <a:ext cx="719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00"/>
                  </a:solidFill>
                  <a:latin typeface="Arial"/>
                </a:rPr>
                <a:t>60</a:t>
              </a:r>
              <a:r>
                <a:rPr b="0" lang="en-US" sz="2000" spc="-1" strike="noStrike" baseline="30000">
                  <a:solidFill>
                    <a:srgbClr val="0033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777000" y="4578120"/>
              <a:ext cx="718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00"/>
                  </a:solidFill>
                  <a:latin typeface="Arial"/>
                </a:rPr>
                <a:t>60</a:t>
              </a:r>
              <a:r>
                <a:rPr b="0" lang="en-US" sz="2000" spc="-1" strike="noStrike" baseline="30000">
                  <a:solidFill>
                    <a:srgbClr val="0033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"/>
          <p:cNvSpPr/>
          <p:nvPr/>
        </p:nvSpPr>
        <p:spPr>
          <a:xfrm>
            <a:off x="334800" y="4595760"/>
            <a:ext cx="57610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ыполнив весь алгоритм, Черепашка совершит поворот на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0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∙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 = 360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умма внешних углов многоугольника = 360°.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ледовательно, получается замкнутая ломаная, образующая правильный многоугольник, состоящий из шести равных сторон, т.е.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равильный шестиугольник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27600" y="1116000"/>
            <a:ext cx="3005280" cy="1880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Ответ:  3</a:t>
            </a:r>
            <a:br>
              <a:rPr sz="2800"/>
            </a:br>
            <a:r>
              <a:rPr b="1" lang="en-US" sz="2200" spc="-1" strike="noStrike">
                <a:solidFill>
                  <a:srgbClr val="a50021"/>
                </a:solidFill>
                <a:latin typeface="Arial"/>
              </a:rPr>
              <a:t>Данные рассуждения </a:t>
            </a:r>
            <a:br>
              <a:rPr sz="2200"/>
            </a:br>
            <a:r>
              <a:rPr b="1" lang="en-US" sz="2200" spc="-1" strike="noStrike">
                <a:solidFill>
                  <a:srgbClr val="a50021"/>
                </a:solidFill>
                <a:latin typeface="Arial"/>
              </a:rPr>
              <a:t>не дадут положительного результата в №2!!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0" y="0"/>
            <a:ext cx="525600" cy="5270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10920" y="549360"/>
            <a:ext cx="8031240" cy="1800000"/>
          </a:xfrm>
          <a:prstGeom prst="rect">
            <a:avLst/>
          </a:prstGeom>
          <a:noFill/>
          <a:ln w="0">
            <a:noFill/>
          </a:ln>
        </p:spPr>
        <p:txBody>
          <a:bodyPr lIns="90000" rIns="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втори   6 [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Направо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60   Вперёд   15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акая фигура появится на экране?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1. правильный пятиугольник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2. правильный треугольник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3. правильный шестиугольник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4. правильный двенадцатиугольн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rot="5400000">
            <a:off x="8490600" y="2072520"/>
            <a:ext cx="817560" cy="358560"/>
          </a:xfrm>
          <a:prstGeom prst="triangle">
            <a:avLst>
              <a:gd name="adj" fmla="val 50000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659560" y="907920"/>
            <a:ext cx="3484440" cy="180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10920" y="189000"/>
            <a:ext cx="684036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Выполните зада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611280" y="90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0">
              <a:lnSpc>
                <a:spcPct val="80000"/>
              </a:lnSpc>
              <a:spcBef>
                <a:spcPts val="2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105000"/>
              </a:lnSpc>
              <a:spcBef>
                <a:spcPts val="2500"/>
              </a:spcBef>
              <a:buClr>
                <a:srgbClr val="000000"/>
              </a:buClr>
              <a:buSzPct val="170000"/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ЛИТОЧНИК должен уложить через одну красные и синие плитки снизу от бордюра, который находится на плоскости, пересекая её по горизонтали, не доходя до краёв. Длина бордюра неизвестна. ПЛИТОЧНИК находится в одной из клеток, расположенной непосредственно над бордюр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78880" indent="-578880">
              <a:lnSpc>
                <a:spcPct val="105000"/>
              </a:lnSpc>
              <a:spcBef>
                <a:spcPts val="2500"/>
              </a:spcBef>
              <a:buClr>
                <a:srgbClr val="000000"/>
              </a:buClr>
              <a:buSzPct val="170000"/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ЛИТОЧНИК должен уложить через одну красные и синие плитки слева от бордюра, который находится на плоскости, пересекая её по вертикали, не доходя до краёв. Длина бордюра неизвестна. ПЛИТОЧНИК находится в одной из клеток, расположенной непосредственно слева от бордюра. Его начальное положение также неизвестно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0" y="0"/>
            <a:ext cx="97164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); 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2411280" y="5950080"/>
            <a:ext cx="64818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1" action="ppaction://hlinksldjump"/>
              </a:rPr>
              <a:t>Плиточник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2" action="ppaction://hlinksldjump"/>
              </a:rPr>
              <a:t> по смыслу похож на 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3" action="ppaction://hlinksldjump"/>
              </a:rPr>
              <a:t>ПАРКЕТЧИКА</a:t>
            </a: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4" action="ppaction://hlinksldjump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5" action="ppaction://hlinksldjump"/>
              </a:rPr>
              <a:t>О некоторых средах программирования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prog.narod.ru/probl_parket.htm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задачи к Паркетчик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http://prog.narod.ru/parket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аркетчик умеет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еремещаться по клеточному полю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спознавать цвет плитк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бирать и ставить плитк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аспознавать наличие стен в соседних клетках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Выполнять несложные математические действия с целыми числами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Система команд Паркетчик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. Шаг вправ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. Шаг влев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. Шаг вверх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4. Шаг вниз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5. Положить (X) - в текущую клетку ложит плитку цвета Х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6. Снять плитку - без комментариев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7. А:=Х - переменной А присваивает значение Х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8. Запросить А - требует ввести с клавиатуры значение переменной А - пользователь вводит числовое значение и нажимает Enter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9. Сообщить А - выводит на экран значение 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0. Пауза Х - приостанавливает выполнение программы на Х миллисекунд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1. Перейти на (Х,Y) - переходит на ячейку с координатами X,Y.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12. Стоп - остановка программы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Каждая команда заканчивается знаком (;) - точка с запятой. Группа команд, которая должна выполняться как один оператор, заключается в фигурные скобки: {оператор} - обычно используется в циклах и ветвлениях. Перед закрывающей скобкой } ставить точку с запятой (;) необязательно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ачинается описание программы с объявления переменных. Переменные у Паркетчика двух типов: целые и цвет. С переменными целого типа все ясно. Переменные типа цвет могут принимать только два значения: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красная, зеленая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Если переменных нет, объявление их можно пропустить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За переменными идет раздел описания подпрограмм. Если их нет - этот раздел можно так же пропустить. Дальше идет главная часть программы, которая начинается с зарезервированного слова Программа - оно обязательно. Исполнительная часть программы заключается в скобки - {…}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7093080" y="504720"/>
            <a:ext cx="1800000" cy="256284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литочни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по смыслу похож на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АРКЕТЧИКА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на которого разработана среда программиро-в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/>
          </p:nvPr>
        </p:nvSpPr>
        <p:spPr>
          <a:xfrm>
            <a:off x="457200" y="189000"/>
            <a:ext cx="8229600" cy="64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yudenisov.livejournal.com/8463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«Сегодня скачал и опробовал работу некоторых программ для обучения информатики в школе: «Роботландию», «Лого Миры» и «Паркетчик». Первые две распространяются под лицензией «demoware», а последняя — «freeware». Для некоторых программ есть версии под DOS и Windows. Перехожу к более детальному описанию пакето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Роботландия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Набор программ для операционной системы MS-DOS, для обучения информатики в младших классах. Будет интересна для школьников с 3 по 6 класс. Содержит в себе тренажёры, обучающие игры и примеры из школьного курса информатики. Интерфейс простой, графика примитивная. В «демонстрационной версии» часть программ не запускается — требуется ключ для разблокировки. Программа запускается в Windows 7 и ALT Linux только в виртуальной машине DOSBox, и уже в нём работает в «оконном режиме» эмулятора. Замечание: демонстрационную версию программы не удалось скачать с официального сайта. Пришлось задействовать поиск в Интернете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Лого Миры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Набор программ для операционной системы Microsoft Windows, для обучения программированию в средних классах (от 11 лет и старше). Содержит в себе редактор и среду программирования на языке «Лого» (рисование черепашками). Интерфейс мне показался нестандартным, однако есть нормальная инструкция и демонстрационные примеры к программе. Программа распространяется по лицензии «demoware», без покупки ключа невозможно сохранить и распечатать результаты работы. Работает на всех компьютерах с 32-х разрядной Windows и под управлением wine в Linux. Программа выложена для скачивания на сайте разработчика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Паркетчик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Программа для обучения программированию с примерами из учебника Гейн. Представляет собой реализацию языка: «упрощённый Лого». Программа широко применяется в школе, поэтому её бесплатную («freeware») версию выложили на сайт издательства «Просвещение», откуда автор её и скачал. Интерфейс программы простой и понятный. Программа существует в версии Windows 32 и MS-DOS, работает одинаково хорошо как в Windows, так и на эмуляторах Wine и DOSBox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Установка и настройка программ не должна вызвать серьёзных проблем. Что касается приобретения полных версий, тут автор рекомендует сначала протестировать продукты, а потом принимать решения по их покупке. Цена «Роботландии» составляет где-то в районе 600 рублей, примерно столько же запрашивают за «Лого Миры». «Паркетчик» во всех версиях распространяется бесплатно.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 rot="16200000">
            <a:off x="-3166920" y="3233160"/>
            <a:ext cx="6769080" cy="35856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 некоторых средах программирования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/>
          </p:nvPr>
        </p:nvSpPr>
        <p:spPr>
          <a:xfrm>
            <a:off x="0" y="549360"/>
            <a:ext cx="91440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Исполнитель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Черепашка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емещается на экране компьютера. В каждый конкретный момент известно положение исполнителя и направление его движения. У исполнителя существуют две команд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перёд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(где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— целое число), вызывающая передвижение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Черепашки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п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шагов в направлении движе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Налево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(где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— целое число), вызывающая изменение направления движения на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радусов по часовой стрелк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— (перо опустить) выполнение команд, оставляя след в виде линии на экран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п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— (перо поднять) выполнение команд без следа на экране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пись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Повтори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[Команда1 Команда2 КомандаЗ]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означает, что последовательность команд в скобках повторится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раз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пись на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Листе Программ.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аждая программа начинается со слова «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Это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», после которого следует имя. На листе программ исполнителя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Черепашка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записывают программы и подпрограммы. (Подпрограмма — это часть программы, содержащая описание определённого набора действий.) Подпрограмму можно вызывать из другой программы. Имя подпрограммы может быть любым. В примере ниже имя подпрограммы — «цифра»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Это циф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манда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манда2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нец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ример вызова подпрограммы «цифра» из программы «число»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Это числ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цифр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манда1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Конец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Поле команд записывается окончательная программ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 type="title"/>
          </p:nvPr>
        </p:nvSpPr>
        <p:spPr>
          <a:xfrm>
            <a:off x="250920" y="132840"/>
            <a:ext cx="720072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0000"/>
                </a:solidFill>
                <a:latin typeface="Arial"/>
              </a:rPr>
              <a:t>23.</a:t>
            </a:r>
            <a:r>
              <a:rPr b="0" i="1" lang="en-US" sz="3600" spc="-1" strike="noStrike">
                <a:solidFill>
                  <a:srgbClr val="000000"/>
                </a:solidFill>
                <a:latin typeface="Arial"/>
              </a:rPr>
              <a:t>       И вновь 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ЧЕРЕПАШ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"/>
          <p:cNvSpPr/>
          <p:nvPr/>
        </p:nvSpPr>
        <p:spPr>
          <a:xfrm>
            <a:off x="250920" y="907920"/>
            <a:ext cx="8642160" cy="720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1"/>
          <p:cNvSpPr>
            <a:spLocks noGrp="1"/>
          </p:cNvSpPr>
          <p:nvPr>
            <p:ph/>
          </p:nvPr>
        </p:nvSpPr>
        <p:spPr>
          <a:xfrm>
            <a:off x="457200" y="907920"/>
            <a:ext cx="868680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пишите для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Черепашк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лгоритм, при выполнении которого получится заданная фигу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Листы Программы 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то лу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перед 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лево 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втори 4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[вперед 20 налево 9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лево  13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перед 5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лево  1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лево 72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коне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ле команд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 повтори 4 [повтори 5 [луч]   налево 90 вперед  150]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 type="title"/>
          </p:nvPr>
        </p:nvSpPr>
        <p:spPr>
          <a:xfrm>
            <a:off x="-360" y="189000"/>
            <a:ext cx="7607160" cy="3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Выполните задание 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ЧЕРЕПАШ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7" name="" descr=""/>
          <p:cNvPicPr/>
          <p:nvPr/>
        </p:nvPicPr>
        <p:blipFill>
          <a:blip r:embed="rId1"/>
          <a:stretch/>
        </p:blipFill>
        <p:spPr>
          <a:xfrm>
            <a:off x="6172200" y="2679840"/>
            <a:ext cx="2725560" cy="2788920"/>
          </a:xfrm>
          <a:prstGeom prst="rect">
            <a:avLst/>
          </a:prstGeom>
          <a:ln w="0">
            <a:noFill/>
          </a:ln>
        </p:spPr>
      </p:pic>
      <p:sp>
        <p:nvSpPr>
          <p:cNvPr id="718" name=""/>
          <p:cNvSpPr/>
          <p:nvPr/>
        </p:nvSpPr>
        <p:spPr>
          <a:xfrm>
            <a:off x="5651640" y="1628640"/>
            <a:ext cx="1800000" cy="1079640"/>
          </a:xfrm>
          <a:prstGeom prst="line">
            <a:avLst/>
          </a:prstGeom>
          <a:ln w="9360">
            <a:solidFill>
              <a:srgbClr val="cc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"/>
          <p:cNvSpPr/>
          <p:nvPr/>
        </p:nvSpPr>
        <p:spPr>
          <a:xfrm>
            <a:off x="0" y="5950080"/>
            <a:ext cx="9144000" cy="907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47480" y="55080"/>
            <a:ext cx="6994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Чертёжн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0" y="549360"/>
            <a:ext cx="9144000" cy="636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нитель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Чертёжник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меет перемещаться по листу бумаги. Направление движения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Чертёжника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необходимости отмечается стрелкой. Ниже приведено описание основных команд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Чертёжника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становить_точк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ыгну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вернуть_нале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выполнении команды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становить_точку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Чертёжник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танавливает точку в том месте, где он находится. При этом данная точка соединяется прямой линией с предыдущей установленной точкой (если она есть на листе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выполнении команды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ыгнут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Чертёжник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еремещаетс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 1 см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о направлению движения, не оставляя за собой лин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выполнении команды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вернуть_налев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сполнитель разворачивается на 90° против часовой стрелк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анда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переди_не _кра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проверяет истинность условия отсутствия перед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Чертёжником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ая бумаги. Эту команду можно использовать с условием «если», имеющим следующий вид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если &lt;условие&gt;, то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следовательность коман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аче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следовательность коман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онец_вет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ледовательность команд — это одна или несколько любых команд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Чертёжник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пример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для передвижения на один сантиметр по направлению движения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Чертёжника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по ходу его движения нет края листа, можно использовать такой алгорит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если впереди_не_край, то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делать_ш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онец_ветвле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ка &lt;условие&gt;, повторять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следовательность коман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онец_цик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пример,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рисования прямой линии, пока это возможно, можно использовать следующий алгоритм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ка впереди_не_край,   повторять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делать_ша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онец_цик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Выполните зада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Чертёжник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ходится в произвольной точке листа, отстоящей от любого из её краёв более чем на 3 см. Составьте алгоритм, выполнив который он нарисует прямоугольную рамку, отстоящую от края на расстоянии двух шаг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/>
          </p:nvPr>
        </p:nvSpPr>
        <p:spPr>
          <a:xfrm>
            <a:off x="250560" y="549360"/>
            <a:ext cx="889308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0000"/>
                </a:solidFill>
                <a:latin typeface="Arial"/>
              </a:rPr>
              <a:t>Чертёжник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ходится в произвольной точке листа, отстоящей от любого из её краёв более чем на 3 см. Составьте алгоритм, выполнив который он нарисует прямоугольную рамку, отстоящую от края на расстоянии двух шаг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)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начала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Чертёжник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ожет двигаться вперёд (по направлению своего движения, не проводя линии), пока не дойдет до края лис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ка впереди_не_край, повторять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ыгну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нец_цик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еперь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Чертёжник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лжен переместиться назад на два шага, чтобы находиться на расстоянии двух шагов до края бумаг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вернуть_налево Повернуть_налево Прыгнуть Прыгну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азвернём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Чертёжника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ак, чтобы направление его движения осуществлялось вдоль края листа (при этом дальнейший обход </a:t>
            </a: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Чертёжником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листа будет осуществляться по часовой стрелке)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вернуть_нале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Arial"/>
              </a:rPr>
              <a:t>Чертёжник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станавливает точку, которая соединяется прямой с предыдущей точкой (если она есть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становить_точку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лее последовательности команд 1), 2) и 3) следует выполнить 6 раз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(В результате выполнения этого алгоритма некоторую часть одной из стен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Чертёжник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ожет закрасить два раза. Чтобы избежать этого, можно сначала установить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Чертёжника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 точку, отстоящую от двух из сторон на расстоянии 2 см, а затем выполнить предложенный алгорит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 type="title"/>
          </p:nvPr>
        </p:nvSpPr>
        <p:spPr>
          <a:xfrm>
            <a:off x="447480" y="55080"/>
            <a:ext cx="699444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Чертёжни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0" y="188640"/>
            <a:ext cx="78120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дание с кратким ответом. Чертёжни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250560" y="907560"/>
            <a:ext cx="858996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сполнитель Чертежник имеет перо, которое можно поднимать, опускать и перемещать. При перемещении опущенного пера за ним остается след в виде прямой линии. У исполнителя существуют следующие команды: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меститься на вектор (a,b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- исполнитель перемещается в точку, в которую можно попасть из данной, пройдя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единиц по горизонтали и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единиц по вертикали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пись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вторить 5 [Команда 1 Команда 2]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означает, что последовательность команд в квадратных скобках повторяется 5 раз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ертежник находится в начале координат. Чертежнику дан для исполнения следующий алгоритм: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меститься на вектор (5, 2)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меститься на вектор (-3, 3)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вторить 3 [Сместиться на вектор (1, 0)]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сместиться на вектор (3, 1)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 каком расстоянии от начала координат будет находиться исполнитель Чертежник в результате выполнения данного алгоритма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7093080" y="6308640"/>
            <a:ext cx="205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твет: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6732720" y="6242040"/>
            <a:ext cx="2411280" cy="615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4" dur="indefinite" restart="never" nodeType="tmRoot">
          <p:childTnLst>
            <p:seq>
              <p:cTn id="865" dur="indefinite" nodeType="mainSeq">
                <p:childTnLst>
                  <p:par>
                    <p:cTn id="866" fill="hold">
                      <p:stCondLst>
                        <p:cond delay="indefinite"/>
                      </p:stCondLst>
                      <p:childTnLst>
                        <p:par>
                          <p:cTn id="867" fill="hold">
                            <p:stCondLst>
                              <p:cond delay="0"/>
                            </p:stCondLst>
                            <p:childTnLst>
                              <p:par>
                                <p:cTn id="868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6840" y="190080"/>
            <a:ext cx="6994440" cy="3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Источники информац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-360" y="907920"/>
            <a:ext cx="637236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форматика и ИКТ. 9 класс. Подготовка к ГИА-201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/Под редакцией Ф.Ф. Лысенко, Л.Н. Евич. – Ростов-на-Дону: Легион-М, 2011. – 272с. – (ГИА-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форматика: ГИА: Учебно-справочные материалы для 9 класса (Серия «Итоговый контроль: ГИА»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/ С. М. Авдошин, Р. 3. Ахметсафина, О. В. Максименкова, И. Н. Лесовская, М. В. Курак, Н. П. Липкин, С. А. Семикина.— М.; СПб.: Просвещение, 2011.— 252 с: и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ГИА-2011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 Экзамен в новой форме : Информатика : 9-й кл. : Тренировочные варианты экзаменационных работ для проведения государственной итоговой аттестации в новой форме / авт.-сост. Д.П. Кириенко, П.О. Осипов, А.В. Чернов. — М.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: Астрель, 2011. — 112,[16] с. — (Федеральный институт педагогических измерений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емоверсии ГИА 2009, 2010 г.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айт 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kpolyakov.narod.ru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Полякова К.Ю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0" name="" descr=""/>
          <p:cNvPicPr/>
          <p:nvPr/>
        </p:nvPicPr>
        <p:blipFill>
          <a:blip r:embed="rId2"/>
          <a:stretch/>
        </p:blipFill>
        <p:spPr>
          <a:xfrm rot="306600">
            <a:off x="6959160" y="198000"/>
            <a:ext cx="1792440" cy="2879640"/>
          </a:xfrm>
          <a:prstGeom prst="rect">
            <a:avLst/>
          </a:prstGeom>
          <a:ln w="0">
            <a:noFill/>
          </a:ln>
        </p:spPr>
      </p:pic>
      <p:pic>
        <p:nvPicPr>
          <p:cNvPr id="731" name="" descr=""/>
          <p:cNvPicPr/>
          <p:nvPr/>
        </p:nvPicPr>
        <p:blipFill>
          <a:blip r:embed="rId3"/>
          <a:stretch/>
        </p:blipFill>
        <p:spPr>
          <a:xfrm rot="1299000">
            <a:off x="7090920" y="2057400"/>
            <a:ext cx="1617840" cy="2519280"/>
          </a:xfrm>
          <a:prstGeom prst="rect">
            <a:avLst/>
          </a:prstGeom>
          <a:ln w="9360">
            <a:solidFill>
              <a:srgbClr val="660066"/>
            </a:solidFill>
            <a:miter/>
          </a:ln>
        </p:spPr>
      </p:pic>
      <p:pic>
        <p:nvPicPr>
          <p:cNvPr id="732" name="" descr=""/>
          <p:cNvPicPr/>
          <p:nvPr/>
        </p:nvPicPr>
        <p:blipFill>
          <a:blip r:embed="rId4"/>
          <a:stretch/>
        </p:blipFill>
        <p:spPr>
          <a:xfrm rot="2034000">
            <a:off x="6778800" y="3943440"/>
            <a:ext cx="1771560" cy="2519280"/>
          </a:xfrm>
          <a:prstGeom prst="rect">
            <a:avLst/>
          </a:prstGeom>
          <a:ln w="9360">
            <a:solidFill>
              <a:srgbClr val="6600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04840" y="3905280"/>
            <a:ext cx="6167520" cy="289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Реш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Если это правильный многоугольник, то сумма его внешних углов = 36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еличина одного внешнего угла = 45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+ 45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0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 9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/ 90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4 (делится нацело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ВАДРАТ,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 поскольку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Повтори 8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, квадрат нарисуется дважды по одному контуру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11216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Черепашке был дан для исполнения следующий алгорит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91880" y="1217520"/>
            <a:ext cx="889308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06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втори 8 [Направо 45   Вперёд 18   Направо 45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кая фигура появится на экран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сьмиконечная звез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авильный восьмиуголь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замкнутая ломаная ли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вадр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093080" y="613728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твет: 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732720" y="5776920"/>
            <a:ext cx="2411280" cy="10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5795280" y="2629440"/>
            <a:ext cx="3274200" cy="3290400"/>
            <a:chOff x="5795280" y="2629440"/>
            <a:chExt cx="3274200" cy="3290400"/>
          </a:xfrm>
        </p:grpSpPr>
        <p:sp>
          <p:nvSpPr>
            <p:cNvPr id="151" name=""/>
            <p:cNvSpPr/>
            <p:nvPr/>
          </p:nvSpPr>
          <p:spPr>
            <a:xfrm>
              <a:off x="6503760" y="3438360"/>
              <a:ext cx="387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00"/>
                  </a:solidFill>
                  <a:latin typeface="Arial"/>
                </a:rPr>
                <a:t>45</a:t>
              </a:r>
              <a:r>
                <a:rPr b="0" lang="ru-RU" sz="2000" spc="-1" strike="noStrike" baseline="30000">
                  <a:solidFill>
                    <a:srgbClr val="0033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5795280" y="2629440"/>
              <a:ext cx="3274200" cy="3290400"/>
              <a:chOff x="5795280" y="2629440"/>
              <a:chExt cx="3274200" cy="3290400"/>
            </a:xfrm>
          </p:grpSpPr>
          <p:grpSp>
            <p:nvGrpSpPr>
              <p:cNvPr id="153" name=""/>
              <p:cNvGrpSpPr/>
              <p:nvPr/>
            </p:nvGrpSpPr>
            <p:grpSpPr>
              <a:xfrm>
                <a:off x="5795280" y="2629440"/>
                <a:ext cx="3274200" cy="3290400"/>
                <a:chOff x="5795280" y="2629440"/>
                <a:chExt cx="3274200" cy="3290400"/>
              </a:xfrm>
            </p:grpSpPr>
            <p:grpSp>
              <p:nvGrpSpPr>
                <p:cNvPr id="154" name=""/>
                <p:cNvGrpSpPr/>
                <p:nvPr/>
              </p:nvGrpSpPr>
              <p:grpSpPr>
                <a:xfrm>
                  <a:off x="5795280" y="3234600"/>
                  <a:ext cx="1645920" cy="1039680"/>
                  <a:chOff x="5795280" y="3234600"/>
                  <a:chExt cx="1645920" cy="1039680"/>
                </a:xfrm>
              </p:grpSpPr>
              <p:sp>
                <p:nvSpPr>
                  <p:cNvPr id="155" name=""/>
                  <p:cNvSpPr/>
                  <p:nvPr/>
                </p:nvSpPr>
                <p:spPr>
                  <a:xfrm rot="18912600">
                    <a:off x="6171840" y="3911400"/>
                    <a:ext cx="2239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141" h="56">
                        <a:moveTo>
                          <a:pt x="0" y="0"/>
                        </a:moveTo>
                        <a:cubicBezTo>
                          <a:pt x="13" y="2"/>
                          <a:pt x="56" y="5"/>
                          <a:pt x="79" y="14"/>
                        </a:cubicBezTo>
                        <a:cubicBezTo>
                          <a:pt x="102" y="23"/>
                          <a:pt x="128" y="47"/>
                          <a:pt x="141" y="56"/>
                        </a:cubicBezTo>
                      </a:path>
                    </a:pathLst>
                  </a:custGeom>
                  <a:noFill/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56" name=""/>
                  <p:cNvGrpSpPr/>
                  <p:nvPr/>
                </p:nvGrpSpPr>
                <p:grpSpPr>
                  <a:xfrm>
                    <a:off x="5795280" y="3234600"/>
                    <a:ext cx="1645920" cy="1039680"/>
                    <a:chOff x="5795280" y="3234600"/>
                    <a:chExt cx="1645920" cy="1039680"/>
                  </a:xfrm>
                </p:grpSpPr>
                <p:sp>
                  <p:nvSpPr>
                    <p:cNvPr id="157" name=""/>
                    <p:cNvSpPr/>
                    <p:nvPr/>
                  </p:nvSpPr>
                  <p:spPr>
                    <a:xfrm flipV="1">
                      <a:off x="6419520" y="3234600"/>
                      <a:ext cx="1021680" cy="101412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8" name=""/>
                    <p:cNvSpPr/>
                    <p:nvPr/>
                  </p:nvSpPr>
                  <p:spPr>
                    <a:xfrm flipH="1">
                      <a:off x="6407640" y="3373920"/>
                      <a:ext cx="3240" cy="90036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9" name=""/>
                    <p:cNvSpPr/>
                    <p:nvPr/>
                  </p:nvSpPr>
                  <p:spPr>
                    <a:xfrm>
                      <a:off x="5795280" y="3633840"/>
                      <a:ext cx="634320" cy="63864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60" name=""/>
                  <p:cNvSpPr/>
                  <p:nvPr/>
                </p:nvSpPr>
                <p:spPr>
                  <a:xfrm rot="18912600">
                    <a:off x="6489720" y="3841920"/>
                    <a:ext cx="85680" cy="26676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168">
                        <a:moveTo>
                          <a:pt x="0" y="0"/>
                        </a:moveTo>
                        <a:lnTo>
                          <a:pt x="33" y="75"/>
                        </a:lnTo>
                        <a:lnTo>
                          <a:pt x="54" y="168"/>
                        </a:lnTo>
                      </a:path>
                    </a:pathLst>
                  </a:custGeom>
                  <a:noFill/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1" name=""/>
                <p:cNvGrpSpPr/>
                <p:nvPr/>
              </p:nvGrpSpPr>
              <p:grpSpPr>
                <a:xfrm>
                  <a:off x="7401960" y="2629440"/>
                  <a:ext cx="1039320" cy="1645560"/>
                  <a:chOff x="7401960" y="2629440"/>
                  <a:chExt cx="1039320" cy="1645560"/>
                </a:xfrm>
              </p:grpSpPr>
              <p:sp>
                <p:nvSpPr>
                  <p:cNvPr id="162" name=""/>
                  <p:cNvSpPr/>
                  <p:nvPr/>
                </p:nvSpPr>
                <p:spPr>
                  <a:xfrm rot="2712600">
                    <a:off x="7607880" y="3073320"/>
                    <a:ext cx="223920" cy="88560"/>
                  </a:xfrm>
                  <a:custGeom>
                    <a:avLst/>
                    <a:gdLst/>
                    <a:ahLst/>
                    <a:rect l="l" t="t" r="r" b="b"/>
                    <a:pathLst>
                      <a:path w="141" h="56">
                        <a:moveTo>
                          <a:pt x="0" y="0"/>
                        </a:moveTo>
                        <a:cubicBezTo>
                          <a:pt x="13" y="2"/>
                          <a:pt x="56" y="5"/>
                          <a:pt x="79" y="14"/>
                        </a:cubicBezTo>
                        <a:cubicBezTo>
                          <a:pt x="102" y="23"/>
                          <a:pt x="128" y="47"/>
                          <a:pt x="141" y="56"/>
                        </a:cubicBezTo>
                      </a:path>
                    </a:pathLst>
                  </a:custGeom>
                  <a:noFill/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760" bIns="41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63" name=""/>
                  <p:cNvGrpSpPr/>
                  <p:nvPr/>
                </p:nvGrpSpPr>
                <p:grpSpPr>
                  <a:xfrm>
                    <a:off x="7401960" y="2629440"/>
                    <a:ext cx="1039320" cy="1645560"/>
                    <a:chOff x="7401960" y="2629440"/>
                    <a:chExt cx="1039320" cy="1645560"/>
                  </a:xfrm>
                </p:grpSpPr>
                <p:sp>
                  <p:nvSpPr>
                    <p:cNvPr id="164" name=""/>
                    <p:cNvSpPr/>
                    <p:nvPr/>
                  </p:nvSpPr>
                  <p:spPr>
                    <a:xfrm>
                      <a:off x="7427160" y="3253320"/>
                      <a:ext cx="1014120" cy="102168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5" name=""/>
                    <p:cNvSpPr/>
                    <p:nvPr/>
                  </p:nvSpPr>
                  <p:spPr>
                    <a:xfrm flipH="1" flipV="1">
                      <a:off x="7401960" y="3241440"/>
                      <a:ext cx="900000" cy="324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6" name=""/>
                    <p:cNvSpPr/>
                    <p:nvPr/>
                  </p:nvSpPr>
                  <p:spPr>
                    <a:xfrm flipH="1">
                      <a:off x="7403400" y="2629440"/>
                      <a:ext cx="638280" cy="63396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67" name=""/>
                  <p:cNvSpPr/>
                  <p:nvPr/>
                </p:nvSpPr>
                <p:spPr>
                  <a:xfrm rot="2712600">
                    <a:off x="7657560" y="3233160"/>
                    <a:ext cx="85680" cy="26640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168">
                        <a:moveTo>
                          <a:pt x="0" y="0"/>
                        </a:moveTo>
                        <a:lnTo>
                          <a:pt x="33" y="75"/>
                        </a:lnTo>
                        <a:lnTo>
                          <a:pt x="54" y="168"/>
                        </a:lnTo>
                      </a:path>
                    </a:pathLst>
                  </a:custGeom>
                  <a:noFill/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8" name=""/>
                <p:cNvGrpSpPr/>
                <p:nvPr/>
              </p:nvGrpSpPr>
              <p:grpSpPr>
                <a:xfrm>
                  <a:off x="7423560" y="4250160"/>
                  <a:ext cx="1645920" cy="1039680"/>
                  <a:chOff x="7423560" y="4250160"/>
                  <a:chExt cx="1645920" cy="1039680"/>
                </a:xfrm>
              </p:grpSpPr>
              <p:sp>
                <p:nvSpPr>
                  <p:cNvPr id="169" name=""/>
                  <p:cNvSpPr/>
                  <p:nvPr/>
                </p:nvSpPr>
                <p:spPr>
                  <a:xfrm rot="8112600">
                    <a:off x="8468640" y="4523760"/>
                    <a:ext cx="2239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141" h="56">
                        <a:moveTo>
                          <a:pt x="0" y="0"/>
                        </a:moveTo>
                        <a:cubicBezTo>
                          <a:pt x="13" y="2"/>
                          <a:pt x="56" y="5"/>
                          <a:pt x="79" y="14"/>
                        </a:cubicBezTo>
                        <a:cubicBezTo>
                          <a:pt x="102" y="23"/>
                          <a:pt x="128" y="47"/>
                          <a:pt x="141" y="56"/>
                        </a:cubicBezTo>
                      </a:path>
                    </a:pathLst>
                  </a:custGeom>
                  <a:noFill/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0" name=""/>
                  <p:cNvGrpSpPr/>
                  <p:nvPr/>
                </p:nvGrpSpPr>
                <p:grpSpPr>
                  <a:xfrm>
                    <a:off x="7423560" y="4250160"/>
                    <a:ext cx="1645920" cy="1039680"/>
                    <a:chOff x="7423560" y="4250160"/>
                    <a:chExt cx="1645920" cy="1039680"/>
                  </a:xfrm>
                </p:grpSpPr>
                <p:sp>
                  <p:nvSpPr>
                    <p:cNvPr id="171" name=""/>
                    <p:cNvSpPr/>
                    <p:nvPr/>
                  </p:nvSpPr>
                  <p:spPr>
                    <a:xfrm flipH="1">
                      <a:off x="7423560" y="4275720"/>
                      <a:ext cx="1021680" cy="101412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2" name=""/>
                    <p:cNvSpPr/>
                    <p:nvPr/>
                  </p:nvSpPr>
                  <p:spPr>
                    <a:xfrm flipV="1">
                      <a:off x="8454240" y="4250160"/>
                      <a:ext cx="3240" cy="90036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3" name=""/>
                    <p:cNvSpPr/>
                    <p:nvPr/>
                  </p:nvSpPr>
                  <p:spPr>
                    <a:xfrm flipH="1" flipV="1">
                      <a:off x="8435520" y="4251960"/>
                      <a:ext cx="633960" cy="63864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74" name=""/>
                  <p:cNvSpPr/>
                  <p:nvPr/>
                </p:nvSpPr>
                <p:spPr>
                  <a:xfrm rot="8112600">
                    <a:off x="8289360" y="4415400"/>
                    <a:ext cx="85680" cy="26676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168">
                        <a:moveTo>
                          <a:pt x="0" y="0"/>
                        </a:moveTo>
                        <a:lnTo>
                          <a:pt x="33" y="75"/>
                        </a:lnTo>
                        <a:lnTo>
                          <a:pt x="54" y="168"/>
                        </a:lnTo>
                      </a:path>
                    </a:pathLst>
                  </a:custGeom>
                  <a:noFill/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5" name=""/>
                <p:cNvGrpSpPr/>
                <p:nvPr/>
              </p:nvGrpSpPr>
              <p:grpSpPr>
                <a:xfrm>
                  <a:off x="6419520" y="4273920"/>
                  <a:ext cx="1039680" cy="1645920"/>
                  <a:chOff x="6419520" y="4273920"/>
                  <a:chExt cx="1039680" cy="1645920"/>
                </a:xfrm>
              </p:grpSpPr>
              <p:sp>
                <p:nvSpPr>
                  <p:cNvPr id="176" name=""/>
                  <p:cNvSpPr/>
                  <p:nvPr/>
                </p:nvSpPr>
                <p:spPr>
                  <a:xfrm rot="13512600">
                    <a:off x="7028640" y="5386320"/>
                    <a:ext cx="2239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141" h="56">
                        <a:moveTo>
                          <a:pt x="0" y="0"/>
                        </a:moveTo>
                        <a:cubicBezTo>
                          <a:pt x="13" y="2"/>
                          <a:pt x="56" y="5"/>
                          <a:pt x="79" y="14"/>
                        </a:cubicBezTo>
                        <a:cubicBezTo>
                          <a:pt x="102" y="23"/>
                          <a:pt x="128" y="47"/>
                          <a:pt x="141" y="56"/>
                        </a:cubicBezTo>
                      </a:path>
                    </a:pathLst>
                  </a:custGeom>
                  <a:noFill/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177" name=""/>
                  <p:cNvGrpSpPr/>
                  <p:nvPr/>
                </p:nvGrpSpPr>
                <p:grpSpPr>
                  <a:xfrm>
                    <a:off x="6419520" y="4273920"/>
                    <a:ext cx="1039680" cy="1645920"/>
                    <a:chOff x="6419520" y="4273920"/>
                    <a:chExt cx="1039680" cy="1645920"/>
                  </a:xfrm>
                </p:grpSpPr>
                <p:sp>
                  <p:nvSpPr>
                    <p:cNvPr id="178" name=""/>
                    <p:cNvSpPr/>
                    <p:nvPr/>
                  </p:nvSpPr>
                  <p:spPr>
                    <a:xfrm flipH="1" flipV="1">
                      <a:off x="6419520" y="4273920"/>
                      <a:ext cx="1014120" cy="102168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9" name=""/>
                    <p:cNvSpPr/>
                    <p:nvPr/>
                  </p:nvSpPr>
                  <p:spPr>
                    <a:xfrm>
                      <a:off x="6558840" y="5304240"/>
                      <a:ext cx="900360" cy="324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0" name=""/>
                    <p:cNvSpPr/>
                    <p:nvPr/>
                  </p:nvSpPr>
                  <p:spPr>
                    <a:xfrm flipV="1">
                      <a:off x="6818760" y="5285520"/>
                      <a:ext cx="638640" cy="63432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81" name=""/>
                  <p:cNvSpPr/>
                  <p:nvPr/>
                </p:nvSpPr>
                <p:spPr>
                  <a:xfrm rot="13512600">
                    <a:off x="7117560" y="5049000"/>
                    <a:ext cx="85680" cy="26676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168">
                        <a:moveTo>
                          <a:pt x="0" y="0"/>
                        </a:moveTo>
                        <a:lnTo>
                          <a:pt x="33" y="75"/>
                        </a:lnTo>
                        <a:lnTo>
                          <a:pt x="54" y="168"/>
                        </a:lnTo>
                      </a:path>
                    </a:pathLst>
                  </a:custGeom>
                  <a:noFill/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82" name=""/>
              <p:cNvSpPr/>
              <p:nvPr/>
            </p:nvSpPr>
            <p:spPr>
              <a:xfrm flipV="1">
                <a:off x="6406920" y="3138120"/>
                <a:ext cx="0" cy="1081080"/>
              </a:xfrm>
              <a:prstGeom prst="line">
                <a:avLst/>
              </a:prstGeom>
              <a:ln w="38160">
                <a:solidFill>
                  <a:srgbClr val="cc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" name=""/>
            <p:cNvSpPr/>
            <p:nvPr/>
          </p:nvSpPr>
          <p:spPr>
            <a:xfrm>
              <a:off x="7837200" y="2825640"/>
              <a:ext cx="387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00"/>
                  </a:solidFill>
                  <a:latin typeface="Arial"/>
                </a:rPr>
                <a:t>45</a:t>
              </a:r>
              <a:r>
                <a:rPr b="0" lang="ru-RU" sz="2000" spc="-1" strike="noStrike" baseline="30000">
                  <a:solidFill>
                    <a:srgbClr val="0033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876800" y="3279600"/>
              <a:ext cx="387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00"/>
                  </a:solidFill>
                  <a:latin typeface="Arial"/>
                </a:rPr>
                <a:t>45</a:t>
              </a:r>
              <a:r>
                <a:rPr b="0" lang="ru-RU" sz="2000" spc="-1" strike="noStrike" baseline="30000">
                  <a:solidFill>
                    <a:srgbClr val="0033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8489520" y="4606920"/>
              <a:ext cx="387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00"/>
                  </a:solidFill>
                  <a:latin typeface="Arial"/>
                </a:rPr>
                <a:t>45</a:t>
              </a:r>
              <a:r>
                <a:rPr b="0" lang="ru-RU" sz="2000" spc="-1" strike="noStrike" baseline="30000">
                  <a:solidFill>
                    <a:srgbClr val="0033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8049960" y="4587840"/>
              <a:ext cx="387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00"/>
                  </a:solidFill>
                  <a:latin typeface="Arial"/>
                </a:rPr>
                <a:t>45</a:t>
              </a:r>
              <a:r>
                <a:rPr b="0" lang="ru-RU" sz="2000" spc="-1" strike="noStrike" baseline="30000">
                  <a:solidFill>
                    <a:srgbClr val="0033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6669000" y="5316480"/>
              <a:ext cx="387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00"/>
                  </a:solidFill>
                  <a:latin typeface="Arial"/>
                </a:rPr>
                <a:t>45</a:t>
              </a:r>
              <a:r>
                <a:rPr b="0" lang="ru-RU" sz="2000" spc="-1" strike="noStrike" baseline="30000">
                  <a:solidFill>
                    <a:srgbClr val="0033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6698880" y="4887720"/>
              <a:ext cx="387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00"/>
                  </a:solidFill>
                  <a:latin typeface="Arial"/>
                </a:rPr>
                <a:t>45</a:t>
              </a:r>
              <a:r>
                <a:rPr b="0" lang="ru-RU" sz="2000" spc="-1" strike="noStrike" baseline="30000">
                  <a:solidFill>
                    <a:srgbClr val="0033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045120" y="3557520"/>
              <a:ext cx="387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3300"/>
                  </a:solidFill>
                  <a:latin typeface="Arial"/>
                </a:rPr>
                <a:t>45</a:t>
              </a:r>
              <a:r>
                <a:rPr b="0" lang="ru-RU" sz="2000" spc="-1" strike="noStrike" baseline="30000">
                  <a:solidFill>
                    <a:srgbClr val="003300"/>
                  </a:solidFill>
                  <a:latin typeface="Arial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0" y="0"/>
            <a:ext cx="525600" cy="5270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763272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Черепашке был дан для исполнения следующий алгоритм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8800" y="1079640"/>
            <a:ext cx="889308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06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Повтори 3 [Направо 45   Вперёд 18   Направо 45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6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акая фигура появится на экран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осьмиконечная звез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авильный восьмиугольни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езамкнутая ломаная ли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06520" indent="-506520">
              <a:spcBef>
                <a:spcPts val="601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вадра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7093080" y="613728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твет: 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732720" y="5776920"/>
            <a:ext cx="2411280" cy="10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92240" y="3805200"/>
            <a:ext cx="576072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ешен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сли это правильный многоугольник, то сумма его внешних углов = 360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личина одного внешнего угла = 45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+ 45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0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 90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360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0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/ 90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= 4 (делится нацело)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КВАДРАТ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О!!! </a:t>
            </a:r>
            <a:r>
              <a:rPr b="0" lang="ru-RU" sz="2400" spc="-1" strike="noStrike">
                <a:solidFill>
                  <a:srgbClr val="ff0000"/>
                </a:solidFill>
                <a:latin typeface="Arial"/>
              </a:rPr>
              <a:t>Повтори 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, а нужно 4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минимум!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Ломаная не замыкает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0"/>
            <a:ext cx="525600" cy="5270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6012000" y="2628720"/>
            <a:ext cx="3057840" cy="3290760"/>
            <a:chOff x="6012000" y="2628720"/>
            <a:chExt cx="3057840" cy="3290760"/>
          </a:xfrm>
        </p:grpSpPr>
        <p:grpSp>
          <p:nvGrpSpPr>
            <p:cNvPr id="198" name=""/>
            <p:cNvGrpSpPr/>
            <p:nvPr/>
          </p:nvGrpSpPr>
          <p:grpSpPr>
            <a:xfrm>
              <a:off x="6012000" y="2628720"/>
              <a:ext cx="3057840" cy="3290760"/>
              <a:chOff x="6012000" y="2628720"/>
              <a:chExt cx="3057840" cy="3290760"/>
            </a:xfrm>
          </p:grpSpPr>
          <p:grpSp>
            <p:nvGrpSpPr>
              <p:cNvPr id="199" name=""/>
              <p:cNvGrpSpPr/>
              <p:nvPr/>
            </p:nvGrpSpPr>
            <p:grpSpPr>
              <a:xfrm>
                <a:off x="6362280" y="2628720"/>
                <a:ext cx="2707560" cy="3290760"/>
                <a:chOff x="6362280" y="2628720"/>
                <a:chExt cx="2707560" cy="3290760"/>
              </a:xfrm>
            </p:grpSpPr>
            <p:sp>
              <p:nvSpPr>
                <p:cNvPr id="200" name=""/>
                <p:cNvSpPr/>
                <p:nvPr/>
              </p:nvSpPr>
              <p:spPr>
                <a:xfrm>
                  <a:off x="6504120" y="3438360"/>
                  <a:ext cx="3873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3300"/>
                      </a:solidFill>
                      <a:latin typeface="Arial"/>
                    </a:rPr>
                    <a:t>45</a:t>
                  </a:r>
                  <a:r>
                    <a:rPr b="0" lang="ru-RU" sz="2000" spc="-1" strike="noStrike" baseline="30000">
                      <a:solidFill>
                        <a:srgbClr val="003300"/>
                      </a:solidFill>
                      <a:latin typeface="Arial"/>
                    </a:rPr>
                    <a:t>0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 flipV="1">
                  <a:off x="6417720" y="3232800"/>
                  <a:ext cx="1021680" cy="101448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 flipH="1">
                  <a:off x="6406920" y="3373560"/>
                  <a:ext cx="3600" cy="9000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 rot="18912600">
                  <a:off x="6488280" y="3841560"/>
                  <a:ext cx="85680" cy="266400"/>
                </a:xfrm>
                <a:custGeom>
                  <a:avLst/>
                  <a:gdLst/>
                  <a:ahLst/>
                  <a:rect l="l" t="t" r="r" b="b"/>
                  <a:pathLst>
                    <a:path w="54" h="168">
                      <a:moveTo>
                        <a:pt x="0" y="0"/>
                      </a:moveTo>
                      <a:lnTo>
                        <a:pt x="33" y="75"/>
                      </a:lnTo>
                      <a:lnTo>
                        <a:pt x="54" y="168"/>
                      </a:ln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04" name=""/>
                <p:cNvGrpSpPr/>
                <p:nvPr/>
              </p:nvGrpSpPr>
              <p:grpSpPr>
                <a:xfrm>
                  <a:off x="7401240" y="2628720"/>
                  <a:ext cx="1039320" cy="1645560"/>
                  <a:chOff x="7401240" y="2628720"/>
                  <a:chExt cx="1039320" cy="1645560"/>
                </a:xfrm>
              </p:grpSpPr>
              <p:sp>
                <p:nvSpPr>
                  <p:cNvPr id="205" name=""/>
                  <p:cNvSpPr/>
                  <p:nvPr/>
                </p:nvSpPr>
                <p:spPr>
                  <a:xfrm rot="2712600">
                    <a:off x="7607160" y="3072600"/>
                    <a:ext cx="223920" cy="88560"/>
                  </a:xfrm>
                  <a:custGeom>
                    <a:avLst/>
                    <a:gdLst/>
                    <a:ahLst/>
                    <a:rect l="l" t="t" r="r" b="b"/>
                    <a:pathLst>
                      <a:path w="141" h="56">
                        <a:moveTo>
                          <a:pt x="0" y="0"/>
                        </a:moveTo>
                        <a:cubicBezTo>
                          <a:pt x="13" y="2"/>
                          <a:pt x="56" y="5"/>
                          <a:pt x="79" y="14"/>
                        </a:cubicBezTo>
                        <a:cubicBezTo>
                          <a:pt x="102" y="23"/>
                          <a:pt x="128" y="47"/>
                          <a:pt x="141" y="56"/>
                        </a:cubicBezTo>
                      </a:path>
                    </a:pathLst>
                  </a:custGeom>
                  <a:noFill/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1760" bIns="41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06" name=""/>
                  <p:cNvGrpSpPr/>
                  <p:nvPr/>
                </p:nvGrpSpPr>
                <p:grpSpPr>
                  <a:xfrm>
                    <a:off x="7401240" y="2628720"/>
                    <a:ext cx="1039320" cy="1645560"/>
                    <a:chOff x="7401240" y="2628720"/>
                    <a:chExt cx="1039320" cy="1645560"/>
                  </a:xfrm>
                </p:grpSpPr>
                <p:sp>
                  <p:nvSpPr>
                    <p:cNvPr id="207" name=""/>
                    <p:cNvSpPr/>
                    <p:nvPr/>
                  </p:nvSpPr>
                  <p:spPr>
                    <a:xfrm>
                      <a:off x="7426440" y="3252600"/>
                      <a:ext cx="1014120" cy="102168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" name=""/>
                    <p:cNvSpPr/>
                    <p:nvPr/>
                  </p:nvSpPr>
                  <p:spPr>
                    <a:xfrm flipH="1" flipV="1">
                      <a:off x="7401240" y="3240720"/>
                      <a:ext cx="900000" cy="324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3560" bIns="-43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 flipH="1">
                      <a:off x="7402680" y="2628720"/>
                      <a:ext cx="638640" cy="63360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10" name=""/>
                  <p:cNvSpPr/>
                  <p:nvPr/>
                </p:nvSpPr>
                <p:spPr>
                  <a:xfrm rot="2712600">
                    <a:off x="7656840" y="3232440"/>
                    <a:ext cx="85680" cy="26640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168">
                        <a:moveTo>
                          <a:pt x="0" y="0"/>
                        </a:moveTo>
                        <a:lnTo>
                          <a:pt x="33" y="75"/>
                        </a:lnTo>
                        <a:lnTo>
                          <a:pt x="54" y="168"/>
                        </a:lnTo>
                      </a:path>
                    </a:pathLst>
                  </a:custGeom>
                  <a:noFill/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1" name=""/>
                <p:cNvGrpSpPr/>
                <p:nvPr/>
              </p:nvGrpSpPr>
              <p:grpSpPr>
                <a:xfrm>
                  <a:off x="7423920" y="4249440"/>
                  <a:ext cx="1645920" cy="1039680"/>
                  <a:chOff x="7423920" y="4249440"/>
                  <a:chExt cx="1645920" cy="1039680"/>
                </a:xfrm>
              </p:grpSpPr>
              <p:sp>
                <p:nvSpPr>
                  <p:cNvPr id="212" name=""/>
                  <p:cNvSpPr/>
                  <p:nvPr/>
                </p:nvSpPr>
                <p:spPr>
                  <a:xfrm rot="8112600">
                    <a:off x="8469000" y="4522680"/>
                    <a:ext cx="223920" cy="88920"/>
                  </a:xfrm>
                  <a:custGeom>
                    <a:avLst/>
                    <a:gdLst/>
                    <a:ahLst/>
                    <a:rect l="l" t="t" r="r" b="b"/>
                    <a:pathLst>
                      <a:path w="141" h="56">
                        <a:moveTo>
                          <a:pt x="0" y="0"/>
                        </a:moveTo>
                        <a:cubicBezTo>
                          <a:pt x="13" y="2"/>
                          <a:pt x="56" y="5"/>
                          <a:pt x="79" y="14"/>
                        </a:cubicBezTo>
                        <a:cubicBezTo>
                          <a:pt x="102" y="23"/>
                          <a:pt x="128" y="47"/>
                          <a:pt x="141" y="56"/>
                        </a:cubicBezTo>
                      </a:path>
                    </a:pathLst>
                  </a:custGeom>
                  <a:noFill/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120" bIns="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213" name=""/>
                  <p:cNvGrpSpPr/>
                  <p:nvPr/>
                </p:nvGrpSpPr>
                <p:grpSpPr>
                  <a:xfrm>
                    <a:off x="7423920" y="4249440"/>
                    <a:ext cx="1645920" cy="1039680"/>
                    <a:chOff x="7423920" y="4249440"/>
                    <a:chExt cx="1645920" cy="1039680"/>
                  </a:xfrm>
                </p:grpSpPr>
                <p:sp>
                  <p:nvSpPr>
                    <p:cNvPr id="214" name=""/>
                    <p:cNvSpPr/>
                    <p:nvPr/>
                  </p:nvSpPr>
                  <p:spPr>
                    <a:xfrm flipH="1">
                      <a:off x="7423920" y="4274640"/>
                      <a:ext cx="1021680" cy="101448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 flipV="1">
                      <a:off x="8454240" y="4249440"/>
                      <a:ext cx="3600" cy="90036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6" name=""/>
                    <p:cNvSpPr/>
                    <p:nvPr/>
                  </p:nvSpPr>
                  <p:spPr>
                    <a:xfrm flipH="1" flipV="1">
                      <a:off x="8435880" y="4250880"/>
                      <a:ext cx="633960" cy="639000"/>
                    </a:xfrm>
                    <a:prstGeom prst="line">
                      <a:avLst/>
                    </a:prstGeom>
                    <a:ln w="38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17" name=""/>
                  <p:cNvSpPr/>
                  <p:nvPr/>
                </p:nvSpPr>
                <p:spPr>
                  <a:xfrm rot="8112600">
                    <a:off x="8289360" y="4414680"/>
                    <a:ext cx="85680" cy="266760"/>
                  </a:xfrm>
                  <a:custGeom>
                    <a:avLst/>
                    <a:gdLst/>
                    <a:ahLst/>
                    <a:rect l="l" t="t" r="r" b="b"/>
                    <a:pathLst>
                      <a:path w="54" h="168">
                        <a:moveTo>
                          <a:pt x="0" y="0"/>
                        </a:moveTo>
                        <a:lnTo>
                          <a:pt x="33" y="75"/>
                        </a:lnTo>
                        <a:lnTo>
                          <a:pt x="54" y="168"/>
                        </a:lnTo>
                      </a:path>
                    </a:pathLst>
                  </a:custGeom>
                  <a:noFill/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8" name=""/>
                <p:cNvSpPr/>
                <p:nvPr/>
              </p:nvSpPr>
              <p:spPr>
                <a:xfrm rot="13512600">
                  <a:off x="7026840" y="5385240"/>
                  <a:ext cx="223560" cy="88920"/>
                </a:xfrm>
                <a:custGeom>
                  <a:avLst/>
                  <a:gdLst/>
                  <a:ahLst/>
                  <a:rect l="l" t="t" r="r" b="b"/>
                  <a:pathLst>
                    <a:path w="141" h="56">
                      <a:moveTo>
                        <a:pt x="0" y="0"/>
                      </a:moveTo>
                      <a:cubicBezTo>
                        <a:pt x="13" y="2"/>
                        <a:pt x="56" y="5"/>
                        <a:pt x="79" y="14"/>
                      </a:cubicBezTo>
                      <a:cubicBezTo>
                        <a:pt x="102" y="23"/>
                        <a:pt x="128" y="47"/>
                        <a:pt x="141" y="56"/>
                      </a:cubicBezTo>
                    </a:path>
                  </a:pathLst>
                </a:custGeom>
                <a:noFill/>
                <a:ln w="38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2120" bIns="421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6558120" y="5303520"/>
                  <a:ext cx="900000" cy="360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0" bIns="-43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 flipV="1">
                  <a:off x="6817320" y="5285160"/>
                  <a:ext cx="638640" cy="634320"/>
                </a:xfrm>
                <a:prstGeom prst="line">
                  <a:avLst/>
                </a:prstGeom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flipV="1">
                  <a:off x="6407280" y="3138120"/>
                  <a:ext cx="0" cy="1081080"/>
                </a:xfrm>
                <a:prstGeom prst="line">
                  <a:avLst/>
                </a:prstGeom>
                <a:ln w="38160">
                  <a:solidFill>
                    <a:srgbClr val="cc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>
                  <a:off x="7837560" y="2825640"/>
                  <a:ext cx="3873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3300"/>
                      </a:solidFill>
                      <a:latin typeface="Arial"/>
                    </a:rPr>
                    <a:t>45</a:t>
                  </a:r>
                  <a:r>
                    <a:rPr b="0" lang="ru-RU" sz="2000" spc="-1" strike="noStrike" baseline="30000">
                      <a:solidFill>
                        <a:srgbClr val="003300"/>
                      </a:solidFill>
                      <a:latin typeface="Arial"/>
                    </a:rPr>
                    <a:t>0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7877160" y="3279600"/>
                  <a:ext cx="3873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3300"/>
                      </a:solidFill>
                      <a:latin typeface="Arial"/>
                    </a:rPr>
                    <a:t>45</a:t>
                  </a:r>
                  <a:r>
                    <a:rPr b="0" lang="ru-RU" sz="2000" spc="-1" strike="noStrike" baseline="30000">
                      <a:solidFill>
                        <a:srgbClr val="003300"/>
                      </a:solidFill>
                      <a:latin typeface="Arial"/>
                    </a:rPr>
                    <a:t>0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8489880" y="4606920"/>
                  <a:ext cx="3873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3300"/>
                      </a:solidFill>
                      <a:latin typeface="Arial"/>
                    </a:rPr>
                    <a:t>45</a:t>
                  </a:r>
                  <a:r>
                    <a:rPr b="0" lang="ru-RU" sz="2000" spc="-1" strike="noStrike" baseline="30000">
                      <a:solidFill>
                        <a:srgbClr val="003300"/>
                      </a:solidFill>
                      <a:latin typeface="Arial"/>
                    </a:rPr>
                    <a:t>0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"/>
                <p:cNvSpPr/>
                <p:nvPr/>
              </p:nvSpPr>
              <p:spPr>
                <a:xfrm>
                  <a:off x="8050320" y="4587840"/>
                  <a:ext cx="3873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3300"/>
                      </a:solidFill>
                      <a:latin typeface="Arial"/>
                    </a:rPr>
                    <a:t>45</a:t>
                  </a:r>
                  <a:r>
                    <a:rPr b="0" lang="ru-RU" sz="2000" spc="-1" strike="noStrike" baseline="30000">
                      <a:solidFill>
                        <a:srgbClr val="003300"/>
                      </a:solidFill>
                      <a:latin typeface="Arial"/>
                    </a:rPr>
                    <a:t>0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6669000" y="5316480"/>
                  <a:ext cx="3873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3300"/>
                      </a:solidFill>
                      <a:latin typeface="Arial"/>
                    </a:rPr>
                    <a:t>45</a:t>
                  </a:r>
                  <a:r>
                    <a:rPr b="0" lang="ru-RU" sz="2000" spc="-1" strike="noStrike" baseline="30000">
                      <a:solidFill>
                        <a:srgbClr val="003300"/>
                      </a:solidFill>
                      <a:latin typeface="Arial"/>
                    </a:rPr>
                    <a:t>0</a:t>
                  </a: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6362280" y="5305320"/>
                  <a:ext cx="1081080" cy="0"/>
                </a:xfrm>
                <a:prstGeom prst="line">
                  <a:avLst/>
                </a:prstGeom>
                <a:ln w="38160">
                  <a:solidFill>
                    <a:srgbClr val="cc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8" name=""/>
              <p:cNvSpPr/>
              <p:nvPr/>
            </p:nvSpPr>
            <p:spPr>
              <a:xfrm>
                <a:off x="6012000" y="2708280"/>
                <a:ext cx="1081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3300"/>
                    </a:solidFill>
                    <a:latin typeface="Arial"/>
                  </a:rPr>
                  <a:t>начало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6372360" y="4869000"/>
                <a:ext cx="1079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3300"/>
                    </a:solidFill>
                    <a:latin typeface="Arial"/>
                  </a:rPr>
                  <a:t>конец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0" name=""/>
            <p:cNvSpPr/>
            <p:nvPr/>
          </p:nvSpPr>
          <p:spPr>
            <a:xfrm flipV="1">
              <a:off x="6417720" y="3226680"/>
              <a:ext cx="1021680" cy="1014480"/>
            </a:xfrm>
            <a:prstGeom prst="line">
              <a:avLst/>
            </a:prstGeom>
            <a:ln w="57240">
              <a:solidFill>
                <a:srgbClr val="99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432200" y="3253680"/>
              <a:ext cx="1021680" cy="1014480"/>
            </a:xfrm>
            <a:prstGeom prst="line">
              <a:avLst/>
            </a:prstGeom>
            <a:ln w="57240">
              <a:solidFill>
                <a:srgbClr val="99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 flipV="1">
              <a:off x="7438320" y="4266360"/>
              <a:ext cx="1021680" cy="1014120"/>
            </a:xfrm>
            <a:prstGeom prst="line">
              <a:avLst/>
            </a:prstGeom>
            <a:ln w="57240">
              <a:solidFill>
                <a:srgbClr val="99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250560" y="907920"/>
            <a:ext cx="8893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Черепашке был дан для исполнения следующий алгоритм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Повтори  4   [Направо   45  Вперёд  25   Направо   75]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Какая фигура появится на экране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4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ромб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4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правильный треугольник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4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незамкнутая ломаная линия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49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правильный восьмиугольник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093080" y="613728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Ответ: 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732720" y="5776920"/>
            <a:ext cx="2411280" cy="108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0" y="0"/>
            <a:ext cx="525600" cy="5270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15T20:01:50Z</dcterms:created>
  <dc:creator>я</dc:creator>
  <dc:description/>
  <dc:language>en-US</dc:language>
  <cp:lastModifiedBy>Godzilla</cp:lastModifiedBy>
  <dcterms:modified xsi:type="dcterms:W3CDTF">2011-04-14T18:27:26Z</dcterms:modified>
  <cp:revision>478</cp:revision>
  <dc:subject/>
  <dc:title>Слайд 1</dc:title>
</cp:coreProperties>
</file>